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584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B91-29FC-4748-89B8-6AB29A79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50520"/>
            <a:ext cx="855360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112480"/>
            <a:ext cx="85536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405680"/>
            <a:ext cx="85536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0A96-D546-49C0-8414-94A01B59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50520"/>
            <a:ext cx="855360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112480"/>
            <a:ext cx="41738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38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405680"/>
            <a:ext cx="41738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405680"/>
            <a:ext cx="41738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F3F-C585-4190-BD1A-5CC3F5D0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50520"/>
            <a:ext cx="855360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112480"/>
            <a:ext cx="2754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640" y="2112480"/>
            <a:ext cx="2754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520" y="2112480"/>
            <a:ext cx="2754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405680"/>
            <a:ext cx="2754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640" y="4405680"/>
            <a:ext cx="2754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520" y="4405680"/>
            <a:ext cx="27540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009-4BF4-4CD0-BAE4-56A2F917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50520"/>
            <a:ext cx="855360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112480"/>
            <a:ext cx="8553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54A1-88C4-438F-8DC5-3262168B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50520"/>
            <a:ext cx="855360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112480"/>
            <a:ext cx="855360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1CC-A048-4165-843E-0A6C9702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50520"/>
            <a:ext cx="855360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112480"/>
            <a:ext cx="41738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38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C356-ADAF-487E-9383-186A9864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50520"/>
            <a:ext cx="855360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CB8-5090-4AE3-A548-B036B0A5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50520"/>
            <a:ext cx="8553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CEB-6ED5-41DA-86BE-A47E5545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50520"/>
            <a:ext cx="855360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112480"/>
            <a:ext cx="41738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38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405680"/>
            <a:ext cx="41738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0DE-237E-4355-9242-99315BDD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50520"/>
            <a:ext cx="855360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112480"/>
            <a:ext cx="417384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38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405680"/>
            <a:ext cx="41738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D50-0420-4579-8771-BDC5DBB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50520"/>
            <a:ext cx="855360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112480"/>
            <a:ext cx="41738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112480"/>
            <a:ext cx="417384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405680"/>
            <a:ext cx="8553600" cy="20937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2327-78B3-4E48-BA53-20B90B7B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50520"/>
            <a:ext cx="855360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112480"/>
            <a:ext cx="855360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7000"/>
          </a:bodyPr>
          <a:p>
            <a:pPr marL="361440" indent="-36144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1920" indent="-3002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3840" indent="-24156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84440" indent="-24012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6120" indent="-2397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5" marL="2166120" indent="-2397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lvl="6" marL="2166120" indent="-23976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040" y="6664320"/>
            <a:ext cx="209556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8360" y="6664320"/>
            <a:ext cx="318168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0080" y="6664320"/>
            <a:ext cx="209556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C7E9D488-21F9-4B89-A350-EF5C114D63B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10800">
            <a:off x="3138480" y="1785600"/>
            <a:ext cx="597348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ke all entries in pencil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nter the task number and short title in the appropriate colum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the date in the GO block if the soldier demonstrated task proficiency to soldier’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 standards.  Keep this form current by always recording the most recent date on which th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ldier demonstrated task proficienc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the date in the NO-GO block if the solder failed to demonstrate task proficiency to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oldier’s manual standards.  Soldiers who fail to perform the task should be retrained and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ted until they can do the task.  Once the soldier performs the task correctly, enter the dat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GO block and erase the previous entry from the NO-GO bloc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ad down each column (GO/NO-GO) to determine the training status of that individual.  Thi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ll give the trainer a quick indication of tasks on which a soldier needs training or needs to b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heck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ad across the rows for each task to determine the training status of that individual.  Th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rainer can readily see on which tasks training should be focus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 the names of newly assigned soldiers to one of the blank colum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ine through the training status column of any soldier who departs from the un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9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B-1 provides an example of reproducible DA Form 5165-R overprinted with all MO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asks.  This form can be locally reproduced on 8 ½ x 11-inch pap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5379000">
            <a:off x="5892120" y="3187080"/>
            <a:ext cx="5715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IX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 FORM 5165-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ELD EXPEDIENT SQUAD 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380800">
            <a:off x="829440" y="2963160"/>
            <a:ext cx="5715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e to the training manager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The training status of groups (that is team, section, or platoon) can be maintained in key critical MOS tasks at any echelon by entering the echelon (that is,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latoon,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Platoon or 3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Platoon) in the column headings.  Simply have trainers report the percentage of their soldiers who have (GO checks) and have not (NO-GO checks) demonstrated proficiency on each task, and record this information for each echel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389800">
            <a:off x="223200" y="6275160"/>
            <a:ext cx="4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8713080" y="5770440"/>
            <a:ext cx="162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P 44-14E24-SM-T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395800">
            <a:off x="-278640" y="3188160"/>
            <a:ext cx="570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tles of subject areas and tasks have been abbreviated due to limited spacing on this form.  See Chapters 2 and 3 for complete tit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330480" y="604440"/>
            <a:ext cx="9321120" cy="6167160"/>
            <a:chOff x="330480" y="604440"/>
            <a:chExt cx="9321120" cy="6167160"/>
          </a:xfrm>
        </p:grpSpPr>
        <p:grpSp>
          <p:nvGrpSpPr>
            <p:cNvPr id="975" name=""/>
            <p:cNvGrpSpPr/>
            <p:nvPr/>
          </p:nvGrpSpPr>
          <p:grpSpPr>
            <a:xfrm>
              <a:off x="330480" y="604440"/>
              <a:ext cx="8772120" cy="6167160"/>
              <a:chOff x="330480" y="604440"/>
              <a:chExt cx="8772120" cy="6167160"/>
            </a:xfrm>
          </p:grpSpPr>
          <p:grpSp>
            <p:nvGrpSpPr>
              <p:cNvPr id="976" name=""/>
              <p:cNvGrpSpPr/>
              <p:nvPr/>
            </p:nvGrpSpPr>
            <p:grpSpPr>
              <a:xfrm>
                <a:off x="742320" y="704520"/>
                <a:ext cx="8360280" cy="6067080"/>
                <a:chOff x="742320" y="704520"/>
                <a:chExt cx="8360280" cy="606708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8205840" y="6516720"/>
                  <a:ext cx="85896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USAPPC VI.00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rot="5385600">
                  <a:off x="-1006920" y="3673440"/>
                  <a:ext cx="3760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igure B-1.  Completed sample of DA Form 5165-R (continued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076400" y="6510240"/>
                  <a:ext cx="25416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DA FORM 5165-R, SEP 8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344840" y="6510240"/>
                  <a:ext cx="2546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EDITION OF DEC 82 IS OBSOLET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8634240" y="2425680"/>
                  <a:ext cx="4683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720" rIns="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NO-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1001880" y="704880"/>
                  <a:ext cx="5960880" cy="3589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FIELD EXPEDIENT SQUAD BOOK</a:t>
                  </a: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   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For use of  this  form, see AR 350-57, the proponent agency is ODCSOPS                                  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6962760" y="704880"/>
                  <a:ext cx="2008080" cy="4302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411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SHEET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  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9  OF  1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3213000" y="1063800"/>
                  <a:ext cx="5757840" cy="1425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SOLDIER’S NAM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4518000" y="1206360"/>
                  <a:ext cx="1440" cy="107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>
                  <a:off x="5153040" y="1206360"/>
                  <a:ext cx="1440" cy="107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786280" y="1206360"/>
                  <a:ext cx="1800" cy="107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421320" y="1206360"/>
                  <a:ext cx="5040" cy="107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054920" y="1206360"/>
                  <a:ext cx="0" cy="107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>
                  <a:off x="7697880" y="1206360"/>
                  <a:ext cx="1440" cy="107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8323200" y="1206360"/>
                  <a:ext cx="1800" cy="107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8970840" y="704880"/>
                  <a:ext cx="0" cy="186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882960" y="1206360"/>
                  <a:ext cx="9720" cy="107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>
                  <a:off x="3546000" y="2567160"/>
                  <a:ext cx="1800" cy="3939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>
                  <a:off x="3881160" y="2424240"/>
                  <a:ext cx="11160" cy="4082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203720" y="2567160"/>
                  <a:ext cx="4680" cy="3939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>
                  <a:off x="4518000" y="2424240"/>
                  <a:ext cx="1440" cy="4082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838760" y="2567160"/>
                  <a:ext cx="1440" cy="3939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>
                  <a:off x="5151600" y="2424240"/>
                  <a:ext cx="1440" cy="4082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473800" y="2567160"/>
                  <a:ext cx="1440" cy="3939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>
                  <a:off x="5785920" y="2424240"/>
                  <a:ext cx="1800" cy="4082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107040" y="2567160"/>
                  <a:ext cx="1800" cy="3939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6420960" y="2424240"/>
                  <a:ext cx="1800" cy="4082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743880" y="2567160"/>
                  <a:ext cx="1440" cy="3939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7054920" y="2424240"/>
                  <a:ext cx="0" cy="4082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7385040" y="2567160"/>
                  <a:ext cx="1440" cy="3939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>
                  <a:off x="7697880" y="2424240"/>
                  <a:ext cx="1440" cy="4082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8010360" y="2567160"/>
                  <a:ext cx="1800" cy="3939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>
                  <a:off x="8322840" y="2424240"/>
                  <a:ext cx="1800" cy="4082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8634240" y="2567160"/>
                  <a:ext cx="1800" cy="3939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001880" y="2279520"/>
                  <a:ext cx="2211120" cy="287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TASK NUMBER AND SHORT TITL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>
                  <a:off x="3212640" y="1063800"/>
                  <a:ext cx="1800" cy="5443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071720" y="1135080"/>
                  <a:ext cx="220788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USER APPLICA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279600" y="2293920"/>
                  <a:ext cx="57549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STATU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213000" y="2279520"/>
                  <a:ext cx="57549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213000" y="2424240"/>
                  <a:ext cx="575496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081240" y="2567160"/>
                  <a:ext cx="588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1004760" y="2781360"/>
                  <a:ext cx="7963200" cy="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1001880" y="2997360"/>
                  <a:ext cx="7966080" cy="2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1004760" y="3260880"/>
                  <a:ext cx="796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1004760" y="3490920"/>
                  <a:ext cx="7963200" cy="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1004760" y="3713040"/>
                  <a:ext cx="79632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1004760" y="3956040"/>
                  <a:ext cx="79632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1004760" y="4187880"/>
                  <a:ext cx="79632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1004760" y="4419720"/>
                  <a:ext cx="79632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V="1">
                  <a:off x="1004760" y="4651200"/>
                  <a:ext cx="7963200" cy="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1004760" y="4884840"/>
                  <a:ext cx="79632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004760" y="5114880"/>
                  <a:ext cx="79632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004760" y="5348160"/>
                  <a:ext cx="79632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1004760" y="5578560"/>
                  <a:ext cx="79632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1004760" y="6043680"/>
                  <a:ext cx="79632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V="1">
                  <a:off x="1004760" y="5811840"/>
                  <a:ext cx="79632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1004760" y="6276960"/>
                  <a:ext cx="79632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3546360" y="2423880"/>
                  <a:ext cx="180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V="1">
                  <a:off x="4203720" y="2423880"/>
                  <a:ext cx="144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V="1">
                  <a:off x="4838760" y="2423880"/>
                  <a:ext cx="144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5473800" y="2423880"/>
                  <a:ext cx="144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flipV="1">
                  <a:off x="6743880" y="2423880"/>
                  <a:ext cx="144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7385040" y="2423880"/>
                  <a:ext cx="144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8010360" y="2423880"/>
                  <a:ext cx="180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8634240" y="2423880"/>
                  <a:ext cx="180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V="1">
                  <a:off x="6107040" y="2423880"/>
                  <a:ext cx="180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3279600" y="2424240"/>
                  <a:ext cx="3351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517920" y="2424240"/>
                  <a:ext cx="4683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NO-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3892680" y="2424240"/>
                  <a:ext cx="3333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618080" y="2424240"/>
                  <a:ext cx="2682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214880" y="2424240"/>
                  <a:ext cx="3366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NO 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818240" y="2424240"/>
                  <a:ext cx="4032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NO-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153040" y="2424240"/>
                  <a:ext cx="3366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445000" y="2424240"/>
                  <a:ext cx="3333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NO-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759280" y="2425680"/>
                  <a:ext cx="45432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084720" y="2424240"/>
                  <a:ext cx="3351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080" rIns="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NO-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426360" y="2424240"/>
                  <a:ext cx="3362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697080" y="2424240"/>
                  <a:ext cx="42624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NO-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095960" y="2424240"/>
                  <a:ext cx="33372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351560" y="2424240"/>
                  <a:ext cx="3366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3080" rIns="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NO-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697880" y="2424240"/>
                  <a:ext cx="3333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8002440" y="2424240"/>
                  <a:ext cx="3333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NO-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639200" y="2416320"/>
                  <a:ext cx="1839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8350200" y="2424240"/>
                  <a:ext cx="33516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</a:rPr>
                    <a:t>GO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1001880" y="1063800"/>
                  <a:ext cx="0" cy="1215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001880" y="2281320"/>
                  <a:ext cx="0" cy="422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>
                  <a:off x="1001880" y="6507000"/>
                  <a:ext cx="7968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V="1">
                  <a:off x="8953560" y="2280960"/>
                  <a:ext cx="17280" cy="422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V="1">
                  <a:off x="1001880" y="704520"/>
                  <a:ext cx="0" cy="35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001880" y="704880"/>
                  <a:ext cx="7968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004760" y="2581200"/>
                  <a:ext cx="222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A 15:  CRG Opr/Org Maint (cont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076400" y="2847960"/>
                  <a:ext cx="18572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001880" y="2782800"/>
                  <a:ext cx="21542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41-083-1504 Perf Org Maint on the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R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001880" y="3048120"/>
                  <a:ext cx="22287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en Ctrl Pn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001880" y="3286080"/>
                  <a:ext cx="215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41-083-1505 Perf Org Maint on the CR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001880" y="3500280"/>
                  <a:ext cx="2154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RLRIU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001880" y="3733920"/>
                  <a:ext cx="2303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41-083-1506 Perf Org Maint on the CRG DLT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1001880" y="4002120"/>
                  <a:ext cx="20811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985680" y="4205160"/>
                  <a:ext cx="222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ata Modem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985680" y="4417920"/>
                  <a:ext cx="2229120" cy="35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A 16:  RS Opr/Org Maint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1001880" y="3960720"/>
                  <a:ext cx="2228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41-083-1507 Perf Org Maint on the CRG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001880" y="4862520"/>
                  <a:ext cx="21542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1020600" y="486252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1001880" y="4657680"/>
                  <a:ext cx="2228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41-083-1114 Perf Radar Compulsori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1001880" y="4906800"/>
                  <a:ext cx="23032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41-083-1451 Perf Opr/Org Maint on the 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1001880" y="5121360"/>
                  <a:ext cx="22287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wr Distr and Ctr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1011240" y="5349960"/>
                  <a:ext cx="2293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41-083-1452 Perf Opr/Org Maint on the 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985680" y="5580000"/>
                  <a:ext cx="222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UG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1076400" y="1206360"/>
                  <a:ext cx="2154240" cy="85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4-14E24-SM-T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OS 14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atriot Fire 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nhanced Operator/Maintain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985680" y="5813280"/>
                  <a:ext cx="2229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41-083-1453 Perf Opr/Org Maint on the 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1001880" y="6049800"/>
                  <a:ext cx="2303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helter Environmental Ctr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8" name=""/>
              <p:cNvSpPr/>
              <p:nvPr/>
            </p:nvSpPr>
            <p:spPr>
              <a:xfrm rot="5389800">
                <a:off x="223200" y="712440"/>
                <a:ext cx="461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/>
            <p:cNvSpPr/>
            <p:nvPr/>
          </p:nvSpPr>
          <p:spPr>
            <a:xfrm rot="5400000">
              <a:off x="8693280" y="1319760"/>
              <a:ext cx="167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330480" y="762120"/>
            <a:ext cx="9321120" cy="6063480"/>
            <a:chOff x="330480" y="762120"/>
            <a:chExt cx="9321120" cy="6063480"/>
          </a:xfrm>
        </p:grpSpPr>
        <p:sp>
          <p:nvSpPr>
            <p:cNvPr id="1092" name=""/>
            <p:cNvSpPr/>
            <p:nvPr/>
          </p:nvSpPr>
          <p:spPr>
            <a:xfrm>
              <a:off x="8261280" y="6567480"/>
              <a:ext cx="911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5413800">
              <a:off x="-997920" y="3797640"/>
              <a:ext cx="388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704440" y="2482920"/>
              <a:ext cx="468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84320" y="762120"/>
              <a:ext cx="5946840" cy="35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031160" y="762120"/>
              <a:ext cx="2003400" cy="430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90760" y="1120680"/>
              <a:ext cx="5743800" cy="142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592520" y="1263600"/>
              <a:ext cx="180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26120" y="1263600"/>
              <a:ext cx="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856120" y="1263600"/>
              <a:ext cx="180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489720" y="1263600"/>
              <a:ext cx="468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21520" y="1263600"/>
              <a:ext cx="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7763040" y="126360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388360" y="126360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034560" y="762120"/>
              <a:ext cx="0" cy="18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959280" y="1263600"/>
              <a:ext cx="792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3622680" y="262404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3957120" y="2481120"/>
              <a:ext cx="972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78240" y="2624040"/>
              <a:ext cx="468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H="1">
              <a:off x="4592160" y="2481120"/>
              <a:ext cx="180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913280" y="2624040"/>
              <a:ext cx="180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>
              <a:off x="5223960" y="2481120"/>
              <a:ext cx="180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45080" y="2624040"/>
              <a:ext cx="180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855760" y="2481120"/>
              <a:ext cx="180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176880" y="2624040"/>
              <a:ext cx="180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89720" y="248112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811920" y="2624040"/>
              <a:ext cx="180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21520" y="2481120"/>
              <a:ext cx="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451640" y="2624040"/>
              <a:ext cx="180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7763040" y="248112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075520" y="2624040"/>
              <a:ext cx="180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8388360" y="248112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697960" y="262404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084320" y="2336760"/>
              <a:ext cx="2206440" cy="287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087560" y="6564240"/>
              <a:ext cx="2533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822840" y="6564240"/>
              <a:ext cx="25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3290400" y="1120680"/>
              <a:ext cx="1800" cy="544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52360" y="1192320"/>
              <a:ext cx="2205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357720" y="2335320"/>
              <a:ext cx="574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90760" y="2336760"/>
              <a:ext cx="5740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90760" y="2481120"/>
              <a:ext cx="5740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159000" y="2624040"/>
              <a:ext cx="5875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1087560" y="2838240"/>
              <a:ext cx="79437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087560" y="3084480"/>
              <a:ext cx="79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87560" y="331632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87560" y="3548160"/>
              <a:ext cx="79437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87560" y="3770280"/>
              <a:ext cx="794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87560" y="401328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1087560" y="424512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1087560" y="4476240"/>
              <a:ext cx="794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1087560" y="4708440"/>
              <a:ext cx="79437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87560" y="4941720"/>
              <a:ext cx="794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087560" y="517212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87560" y="540396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87560" y="563580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087560" y="610092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1087560" y="586908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087560" y="633420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622680" y="248076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4278240" y="248076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913280" y="248076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5545080" y="248076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6811920" y="248076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V="1">
              <a:off x="7451640" y="248076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8075520" y="248076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8697960" y="248076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6176880" y="248076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357720" y="248112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94240" y="2481120"/>
              <a:ext cx="468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965400" y="248112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92600" y="2481120"/>
              <a:ext cx="266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90840" y="2481120"/>
              <a:ext cx="335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890960" y="2481120"/>
              <a:ext cx="401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2481120"/>
              <a:ext cx="33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513400" y="248112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29480" y="2482920"/>
              <a:ext cx="45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154560" y="2481120"/>
              <a:ext cx="333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492960" y="2481120"/>
              <a:ext cx="338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765480" y="248112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164360" y="2481120"/>
              <a:ext cx="331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416720" y="2481120"/>
              <a:ext cx="335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761240" y="248112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067600" y="248112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702560" y="2473200"/>
              <a:ext cx="18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415360" y="248112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084320" y="1120680"/>
              <a:ext cx="0" cy="121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84320" y="2338560"/>
              <a:ext cx="0" cy="42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1084320" y="6564240"/>
              <a:ext cx="795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9016920" y="2338200"/>
              <a:ext cx="17640" cy="422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1084320" y="762120"/>
              <a:ext cx="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084320" y="762120"/>
              <a:ext cx="795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084320" y="263988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16:  RS Opr/Org Maint (c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157400" y="2905200"/>
              <a:ext cx="185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084320" y="287028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55 Perf Opr/Org Maint on the 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084320" y="312732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AS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084320" y="3316320"/>
              <a:ext cx="214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56 Perf Opr/Org Maint on the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084320" y="3557520"/>
              <a:ext cx="214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Antenna/Shelter Positioning Sy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101600" y="3784680"/>
              <a:ext cx="2149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67 Perf Opr/Org Maint on the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084320" y="4059360"/>
              <a:ext cx="20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104840" y="4038480"/>
              <a:ext cx="207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RWCI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66680" y="448956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C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87560" y="4714920"/>
              <a:ext cx="22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69 Perf Opr/Org Maint on the R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84320" y="4273560"/>
              <a:ext cx="22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68 Perf Opr/Org Maint on the R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84320" y="4919760"/>
              <a:ext cx="214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101600" y="4919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084320" y="494352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ci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084320" y="517212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70 Perf Opr/Org Maint on the 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084320" y="542124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084320" y="563580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98 Perf Opr/Org Maint on the 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84320" y="588816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157400" y="1263600"/>
              <a:ext cx="215100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084320" y="6353280"/>
              <a:ext cx="2298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5389800">
              <a:off x="223200" y="6356160"/>
              <a:ext cx="4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5400000">
              <a:off x="8749080" y="5914080"/>
              <a:ext cx="15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330480" y="604440"/>
            <a:ext cx="9321120" cy="6176880"/>
            <a:chOff x="330480" y="604440"/>
            <a:chExt cx="9321120" cy="6176880"/>
          </a:xfrm>
        </p:grpSpPr>
        <p:sp>
          <p:nvSpPr>
            <p:cNvPr id="1207" name=""/>
            <p:cNvSpPr/>
            <p:nvPr/>
          </p:nvSpPr>
          <p:spPr>
            <a:xfrm>
              <a:off x="8381880" y="6519960"/>
              <a:ext cx="9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5388600">
              <a:off x="-1119240" y="3679560"/>
              <a:ext cx="410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8748720" y="2438280"/>
              <a:ext cx="4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073160" y="717480"/>
              <a:ext cx="599436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067520" y="717480"/>
              <a:ext cx="2021040" cy="430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1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298680" y="1076400"/>
              <a:ext cx="5789880" cy="142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610160" y="121932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>
              <a:off x="5248440" y="1219320"/>
              <a:ext cx="288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884920" y="121932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23200" y="1219320"/>
              <a:ext cx="612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161120" y="1219320"/>
              <a:ext cx="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7807320" y="121932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437680" y="121932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088560" y="717480"/>
              <a:ext cx="0" cy="186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970440" y="1219320"/>
              <a:ext cx="1116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363384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3968640" y="2436840"/>
              <a:ext cx="1296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94080" y="2579760"/>
              <a:ext cx="50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4610160" y="243684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93236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H="1">
              <a:off x="5246280" y="2436840"/>
              <a:ext cx="180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7064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5884920" y="243684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0712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6523200" y="243684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848640" y="2579760"/>
              <a:ext cx="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161120" y="2436840"/>
              <a:ext cx="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49304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7807320" y="243684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121600" y="2579760"/>
              <a:ext cx="180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8437680" y="243684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74872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073160" y="2292480"/>
              <a:ext cx="2225520" cy="287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076400" y="6519960"/>
              <a:ext cx="2557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833640" y="6519960"/>
              <a:ext cx="2559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298320" y="1076400"/>
              <a:ext cx="1800" cy="544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144440" y="1147680"/>
              <a:ext cx="2222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367080" y="2314440"/>
              <a:ext cx="578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298680" y="2292480"/>
              <a:ext cx="5786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298680" y="2436840"/>
              <a:ext cx="5786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165480" y="2579760"/>
              <a:ext cx="592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1076400" y="2793960"/>
              <a:ext cx="80089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076400" y="3040200"/>
              <a:ext cx="800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076400" y="327168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076400" y="3503520"/>
              <a:ext cx="800892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76400" y="3726000"/>
              <a:ext cx="800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076400" y="396864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1076400" y="420012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1076400" y="4432320"/>
              <a:ext cx="800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1076400" y="4663800"/>
              <a:ext cx="80089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076400" y="4897440"/>
              <a:ext cx="800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076400" y="512748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076400" y="535932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076400" y="5591160"/>
              <a:ext cx="800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076400" y="605628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1076400" y="582408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076400" y="628956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63384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4294080" y="243648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93236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557064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6848640" y="24364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749304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8121600" y="243648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V="1">
              <a:off x="874872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620712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367080" y="2436840"/>
              <a:ext cx="33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605040" y="2436840"/>
              <a:ext cx="4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981600" y="2436840"/>
              <a:ext cx="33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710240" y="2436840"/>
              <a:ext cx="269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05240" y="2436840"/>
              <a:ext cx="338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13280" y="2436840"/>
              <a:ext cx="405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48440" y="2436840"/>
              <a:ext cx="338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541840" y="243684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856120" y="2438280"/>
              <a:ext cx="459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186600" y="2436840"/>
              <a:ext cx="33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529320" y="243684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801840" y="243684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202520" y="2436840"/>
              <a:ext cx="33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458120" y="2436840"/>
              <a:ext cx="338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07320" y="2436840"/>
              <a:ext cx="33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112240" y="243684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743960" y="2428920"/>
              <a:ext cx="19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8464680" y="243684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73160" y="1076400"/>
              <a:ext cx="0" cy="121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73160" y="2293920"/>
              <a:ext cx="0" cy="422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1072800" y="6519960"/>
              <a:ext cx="801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V="1">
              <a:off x="9070920" y="2293920"/>
              <a:ext cx="17640" cy="422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1073160" y="71712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073160" y="717480"/>
              <a:ext cx="801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076400" y="2606760"/>
              <a:ext cx="224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17:  RS Opr/Org Maint-RR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73160" y="2797200"/>
              <a:ext cx="2166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57 Perf Opr/Org Maint on the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073160" y="2797200"/>
              <a:ext cx="2244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073160" y="3297240"/>
              <a:ext cx="2166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58 Perf Opr/Org Maint on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063800" y="3525840"/>
              <a:ext cx="21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RRG WF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076400" y="3767040"/>
              <a:ext cx="2166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59 Perf Opr/Org Maint on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073160" y="4014720"/>
              <a:ext cx="209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073160" y="4014720"/>
              <a:ext cx="2093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RRG P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073160" y="4444920"/>
              <a:ext cx="224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RRG F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073160" y="4695840"/>
              <a:ext cx="224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61 Perf Opr/Org Maint on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76400" y="4218120"/>
              <a:ext cx="25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60 Perf Opr/Org Maint on the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073160" y="4875120"/>
              <a:ext cx="216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089000" y="4875120"/>
              <a:ext cx="193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073160" y="4927680"/>
              <a:ext cx="224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RRG STI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073160" y="5160960"/>
              <a:ext cx="224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62 Perf Opr/Org Maint on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73160" y="5376960"/>
              <a:ext cx="224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RRG SL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76400" y="5622840"/>
              <a:ext cx="224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63 Perf Opr/Org Maint on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095480" y="5856120"/>
              <a:ext cx="2241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RRG ECC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149480" y="1219320"/>
              <a:ext cx="216828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073160" y="6093000"/>
              <a:ext cx="224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64 Perf Opr/Org Maint on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073160" y="6308640"/>
              <a:ext cx="231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RRG TV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149480" y="3040200"/>
              <a:ext cx="2168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RRG IOC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5389800">
              <a:off x="223200" y="712440"/>
              <a:ext cx="4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5400000">
              <a:off x="8687160" y="1326240"/>
              <a:ext cx="168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330480" y="762120"/>
            <a:ext cx="9324360" cy="6063480"/>
            <a:chOff x="330480" y="762120"/>
            <a:chExt cx="9324360" cy="6063480"/>
          </a:xfrm>
        </p:grpSpPr>
        <p:sp>
          <p:nvSpPr>
            <p:cNvPr id="1323" name=""/>
            <p:cNvSpPr/>
            <p:nvPr/>
          </p:nvSpPr>
          <p:spPr>
            <a:xfrm>
              <a:off x="8305920" y="6553080"/>
              <a:ext cx="969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5407800">
              <a:off x="-1177560" y="3889800"/>
              <a:ext cx="410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008000" y="762120"/>
              <a:ext cx="5992920" cy="35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000920" y="762120"/>
              <a:ext cx="2019240" cy="430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2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232080" y="1120680"/>
              <a:ext cx="5788080" cy="142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541760" y="1263600"/>
              <a:ext cx="180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5181120" y="1263600"/>
              <a:ext cx="180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818320" y="126360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456240" y="1263600"/>
              <a:ext cx="50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093080" y="1263600"/>
              <a:ext cx="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7738560" y="1263600"/>
              <a:ext cx="180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369280" y="126360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020160" y="762120"/>
              <a:ext cx="0" cy="18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03840" y="1263600"/>
              <a:ext cx="936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3567240" y="262404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3901680" y="2481120"/>
              <a:ext cx="1116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226040" y="2624040"/>
              <a:ext cx="468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4541400" y="2481120"/>
              <a:ext cx="180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865760" y="262404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5180040" y="248112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04040" y="262404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5818320" y="248112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140520" y="262404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55880" y="2481120"/>
              <a:ext cx="180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780240" y="262404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093080" y="2481120"/>
              <a:ext cx="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424640" y="2624040"/>
              <a:ext cx="180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7738560" y="2481120"/>
              <a:ext cx="180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053560" y="262404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8369280" y="248112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680320" y="2624040"/>
              <a:ext cx="180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008000" y="2336760"/>
              <a:ext cx="2224080" cy="287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011240" y="6564240"/>
              <a:ext cx="2556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768840" y="6564240"/>
              <a:ext cx="2558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3231720" y="1120680"/>
              <a:ext cx="1800" cy="544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077840" y="1192320"/>
              <a:ext cx="2220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298680" y="2335320"/>
              <a:ext cx="578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232080" y="2336760"/>
              <a:ext cx="5784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232080" y="2481120"/>
              <a:ext cx="5784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097080" y="2624040"/>
              <a:ext cx="592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1011240" y="2838240"/>
              <a:ext cx="800568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008000" y="3054240"/>
              <a:ext cx="800892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011240" y="3316320"/>
              <a:ext cx="800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011240" y="3548160"/>
              <a:ext cx="80056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11240" y="3770280"/>
              <a:ext cx="800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011240" y="4013280"/>
              <a:ext cx="800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1011240" y="4245120"/>
              <a:ext cx="800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011240" y="4476240"/>
              <a:ext cx="800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1011240" y="4708440"/>
              <a:ext cx="80056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011240" y="4941720"/>
              <a:ext cx="8005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011240" y="5172120"/>
              <a:ext cx="800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011240" y="5403960"/>
              <a:ext cx="800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011240" y="5635800"/>
              <a:ext cx="800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011240" y="6100920"/>
              <a:ext cx="800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1011240" y="5869080"/>
              <a:ext cx="800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011240" y="6334200"/>
              <a:ext cx="8005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3567240" y="248076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4226040" y="248076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4865760" y="248076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5504040" y="248076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6780240" y="248076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7424640" y="248076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8053560" y="248076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80320" y="248076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V="1">
              <a:off x="6140520" y="248076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98680" y="248112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537000" y="2481120"/>
              <a:ext cx="4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13200" y="248112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643280" y="2481120"/>
              <a:ext cx="268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8640" y="2481120"/>
              <a:ext cx="338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43440" y="2481120"/>
              <a:ext cx="406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181480" y="2481120"/>
              <a:ext cx="338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473800" y="248112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789520" y="2482920"/>
              <a:ext cx="459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18200" y="248112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461280" y="2481120"/>
              <a:ext cx="338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734520" y="248112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134120" y="2481120"/>
              <a:ext cx="335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391520" y="2481120"/>
              <a:ext cx="338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738920" y="248112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045280" y="248112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680240" y="2473200"/>
              <a:ext cx="18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394840" y="2481120"/>
              <a:ext cx="33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672400" y="2482920"/>
              <a:ext cx="4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08000" y="1120680"/>
              <a:ext cx="0" cy="121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008000" y="2338560"/>
              <a:ext cx="0" cy="422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1008000" y="6564240"/>
              <a:ext cx="801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V="1">
              <a:off x="9002880" y="2338200"/>
              <a:ext cx="17280" cy="422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008000" y="762120"/>
              <a:ext cx="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008000" y="762120"/>
              <a:ext cx="801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011240" y="263988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17:  RS Opr/Org Maint–RRG (c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082520" y="2905200"/>
              <a:ext cx="1868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008000" y="285444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99 Perf Opr/Org Maint on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992160" y="308448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RG Wide Band Receiv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008000" y="3341520"/>
              <a:ext cx="2165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18:  RS Opr/Org Maint–Xmt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08000" y="3557520"/>
              <a:ext cx="2165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nd IFF Sy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08000" y="3844800"/>
              <a:ext cx="2165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54 Perf Opr/Org Maint on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08000" y="4059360"/>
              <a:ext cx="209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082520" y="4059360"/>
              <a:ext cx="2090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IFF Syst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008000" y="448956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mtr Dvr A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008000" y="4727520"/>
              <a:ext cx="22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66 Perf Opr/Org Maint on the R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008000" y="427356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65 Perf Opr/Org Maint on the 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008000" y="4919760"/>
              <a:ext cx="2165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025640" y="4919760"/>
              <a:ext cx="18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008000" y="4943520"/>
              <a:ext cx="2241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Xmtr Final Am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008000" y="520524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94 Perf Opr/Org Maint on the 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008000" y="542124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TWT Xmt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008000" y="563580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97 Perf Opr/Org Maint on the 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008000" y="5886360"/>
              <a:ext cx="2241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082520" y="1263600"/>
              <a:ext cx="216720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008000" y="6353280"/>
              <a:ext cx="231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rot="5389800">
              <a:off x="222840" y="6351480"/>
              <a:ext cx="46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rot="5400000">
              <a:off x="8781480" y="5884560"/>
              <a:ext cx="150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6" name=""/>
          <p:cNvGrpSpPr/>
          <p:nvPr/>
        </p:nvGrpSpPr>
        <p:grpSpPr>
          <a:xfrm>
            <a:off x="330480" y="528120"/>
            <a:ext cx="9444960" cy="6483240"/>
            <a:chOff x="330480" y="528120"/>
            <a:chExt cx="9444960" cy="6483240"/>
          </a:xfrm>
        </p:grpSpPr>
        <p:sp>
          <p:nvSpPr>
            <p:cNvPr id="1437" name=""/>
            <p:cNvSpPr/>
            <p:nvPr/>
          </p:nvSpPr>
          <p:spPr>
            <a:xfrm>
              <a:off x="8458200" y="6750000"/>
              <a:ext cx="990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839080" y="2409840"/>
              <a:ext cx="480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033560" y="581040"/>
              <a:ext cx="6111720" cy="380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145280" y="581040"/>
              <a:ext cx="2059200" cy="457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3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01920" y="961920"/>
              <a:ext cx="590256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638600" y="1114560"/>
              <a:ext cx="180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5289120" y="1114560"/>
              <a:ext cx="180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38920" y="1114560"/>
              <a:ext cx="144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89800" y="1114560"/>
              <a:ext cx="468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238880" y="1114560"/>
              <a:ext cx="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7897320" y="1114560"/>
              <a:ext cx="180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540640" y="1114560"/>
              <a:ext cx="180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204480" y="581040"/>
              <a:ext cx="0" cy="19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987720" y="1114560"/>
              <a:ext cx="9720" cy="11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642840" y="2560680"/>
              <a:ext cx="1800" cy="418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3985920" y="2408400"/>
              <a:ext cx="11160" cy="43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316400" y="2560680"/>
              <a:ext cx="4680" cy="418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4638240" y="2408400"/>
              <a:ext cx="1800" cy="43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968720" y="2560680"/>
              <a:ext cx="1800" cy="418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5288040" y="2408400"/>
              <a:ext cx="1440" cy="43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618160" y="2560680"/>
              <a:ext cx="1440" cy="418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5938920" y="2408400"/>
              <a:ext cx="1440" cy="43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67600" y="2560680"/>
              <a:ext cx="1440" cy="418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6589800" y="2408400"/>
              <a:ext cx="1440" cy="43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919920" y="2560680"/>
              <a:ext cx="1440" cy="418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238880" y="2408400"/>
              <a:ext cx="0" cy="43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577280" y="2560680"/>
              <a:ext cx="1440" cy="418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7897320" y="2408400"/>
              <a:ext cx="1800" cy="43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218440" y="2560680"/>
              <a:ext cx="1800" cy="418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8540280" y="2408400"/>
              <a:ext cx="1800" cy="43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858160" y="2560680"/>
              <a:ext cx="1800" cy="418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033560" y="2255760"/>
              <a:ext cx="22683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036800" y="6750000"/>
              <a:ext cx="2606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48040" y="6750000"/>
              <a:ext cx="261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3301560" y="961920"/>
              <a:ext cx="1800" cy="578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104840" y="1038240"/>
              <a:ext cx="226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370320" y="2255760"/>
              <a:ext cx="589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301920" y="2255760"/>
              <a:ext cx="5899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301920" y="2408400"/>
              <a:ext cx="5899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65480" y="2560680"/>
              <a:ext cx="6039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1036800" y="2789280"/>
              <a:ext cx="8164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033560" y="3017880"/>
              <a:ext cx="8167680" cy="3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036800" y="3297240"/>
              <a:ext cx="8164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036800" y="3543480"/>
              <a:ext cx="816444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36800" y="3780000"/>
              <a:ext cx="8164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1036800" y="4037040"/>
              <a:ext cx="8164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1036800" y="4282560"/>
              <a:ext cx="8164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1036800" y="4530240"/>
              <a:ext cx="8164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1036800" y="4776480"/>
              <a:ext cx="81644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036800" y="5024520"/>
              <a:ext cx="8164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036800" y="5268960"/>
              <a:ext cx="8164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036800" y="5516640"/>
              <a:ext cx="8164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036800" y="5762520"/>
              <a:ext cx="8164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036800" y="6256440"/>
              <a:ext cx="8164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1036800" y="6009840"/>
              <a:ext cx="8164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036800" y="6504120"/>
              <a:ext cx="8164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3643200" y="240804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4316400" y="240804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968720" y="240804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5618160" y="240804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6919920" y="240804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7577280" y="240804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8218440" y="240804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8858160" y="240804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6267600" y="240804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370320" y="2408400"/>
              <a:ext cx="342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613320" y="2408400"/>
              <a:ext cx="480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997440" y="2408400"/>
              <a:ext cx="342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741920" y="2408400"/>
              <a:ext cx="274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329000" y="2408400"/>
              <a:ext cx="344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946760" y="2408400"/>
              <a:ext cx="412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289480" y="2408400"/>
              <a:ext cx="344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587920" y="2408400"/>
              <a:ext cx="343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910120" y="2409840"/>
              <a:ext cx="466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45280" y="2408400"/>
              <a:ext cx="342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594480" y="2408400"/>
              <a:ext cx="344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871680" y="240840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281720" y="2408400"/>
              <a:ext cx="341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543800" y="2408400"/>
              <a:ext cx="344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897680" y="2408400"/>
              <a:ext cx="343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210520" y="2408400"/>
              <a:ext cx="343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850160" y="2400480"/>
              <a:ext cx="165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567640" y="2408400"/>
              <a:ext cx="343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33560" y="961920"/>
              <a:ext cx="0" cy="129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33560" y="2257560"/>
              <a:ext cx="0" cy="449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1033200" y="6750000"/>
              <a:ext cx="817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9186840" y="2257560"/>
              <a:ext cx="17640" cy="449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1033560" y="5810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33560" y="581040"/>
              <a:ext cx="817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033560" y="2790720"/>
              <a:ext cx="226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bject Area 19:  Supv STO Pro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033560" y="2790720"/>
              <a:ext cx="2286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033560" y="30495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2000 Supv BDAR of Patriot Equip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033560" y="3324240"/>
              <a:ext cx="22096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bject Area 20:  Supv Empl, MO and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033560" y="3552840"/>
              <a:ext cx="2209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oad March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033560" y="4086360"/>
              <a:ext cx="2133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033560" y="4530600"/>
              <a:ext cx="2133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c Equ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033560" y="4038480"/>
              <a:ext cx="2286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c Equip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52640" y="4786200"/>
              <a:ext cx="2190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bject Area 21:  Supv Equip Ma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033560" y="3809880"/>
              <a:ext cx="2286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2100 Supv Empl of the Sys Mai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033560" y="5000760"/>
              <a:ext cx="2209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42920" y="503856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2104 Supv Patriot Sys Opr/Org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052640" y="553392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2106 Supv Maint of the TMDE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033560" y="6067440"/>
              <a:ext cx="2286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109520" y="1114560"/>
              <a:ext cx="221004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33560" y="6524640"/>
              <a:ext cx="2361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033560" y="2562120"/>
              <a:ext cx="228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kill Level 2 Task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033560" y="4303800"/>
              <a:ext cx="2286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2101 Supv MO of the Sys Maint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104840" y="5288040"/>
              <a:ext cx="2133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042920" y="5800680"/>
              <a:ext cx="227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109520" y="6296040"/>
              <a:ext cx="221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5407800">
              <a:off x="-1140840" y="3632760"/>
              <a:ext cx="410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rot="5400000">
              <a:off x="8902080" y="5984640"/>
              <a:ext cx="150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5389800">
              <a:off x="222840" y="636480"/>
              <a:ext cx="46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0" name=""/>
          <p:cNvGrpSpPr/>
          <p:nvPr/>
        </p:nvGrpSpPr>
        <p:grpSpPr>
          <a:xfrm>
            <a:off x="330480" y="609120"/>
            <a:ext cx="9321120" cy="6227640"/>
            <a:chOff x="330480" y="609120"/>
            <a:chExt cx="9321120" cy="6227640"/>
          </a:xfrm>
        </p:grpSpPr>
        <p:sp>
          <p:nvSpPr>
            <p:cNvPr id="1551" name=""/>
            <p:cNvSpPr/>
            <p:nvPr/>
          </p:nvSpPr>
          <p:spPr>
            <a:xfrm>
              <a:off x="1077840" y="609480"/>
              <a:ext cx="5996160" cy="368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074000" y="609480"/>
              <a:ext cx="2019240" cy="441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4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303720" y="977760"/>
              <a:ext cx="5789520" cy="147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614840" y="1125360"/>
              <a:ext cx="1440" cy="11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5253120" y="1125360"/>
              <a:ext cx="1440" cy="11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889600" y="1125360"/>
              <a:ext cx="1440" cy="11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527880" y="1125360"/>
              <a:ext cx="4680" cy="11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165800" y="1125360"/>
              <a:ext cx="0" cy="11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7811640" y="1125360"/>
              <a:ext cx="1800" cy="11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8442360" y="1125360"/>
              <a:ext cx="1440" cy="11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9093240" y="609480"/>
              <a:ext cx="0" cy="19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975120" y="1125360"/>
              <a:ext cx="9360" cy="11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3638520" y="2523960"/>
              <a:ext cx="1440" cy="405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3973680" y="2376360"/>
              <a:ext cx="10800" cy="419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299120" y="2523960"/>
              <a:ext cx="2880" cy="405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4614840" y="2376360"/>
              <a:ext cx="1440" cy="419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938840" y="2523960"/>
              <a:ext cx="1440" cy="405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250960" y="2376360"/>
              <a:ext cx="1800" cy="419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575320" y="2523960"/>
              <a:ext cx="1440" cy="405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5889600" y="2376360"/>
              <a:ext cx="1440" cy="419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211800" y="2523960"/>
              <a:ext cx="1800" cy="405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6527880" y="2376360"/>
              <a:ext cx="1440" cy="419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851520" y="2523960"/>
              <a:ext cx="1800" cy="405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165800" y="2376360"/>
              <a:ext cx="0" cy="419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497720" y="2523960"/>
              <a:ext cx="1800" cy="405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7811640" y="2376360"/>
              <a:ext cx="1800" cy="419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126280" y="2523960"/>
              <a:ext cx="1800" cy="405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8442360" y="2376360"/>
              <a:ext cx="1440" cy="419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753400" y="2523960"/>
              <a:ext cx="1800" cy="405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077840" y="2228760"/>
              <a:ext cx="2225880" cy="295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838680" y="6575400"/>
              <a:ext cx="256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8404200" y="6578640"/>
              <a:ext cx="971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3303720" y="977760"/>
              <a:ext cx="1440" cy="559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147680" y="1050840"/>
              <a:ext cx="2222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70320" y="2228760"/>
              <a:ext cx="578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03720" y="2228760"/>
              <a:ext cx="5786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303720" y="2376360"/>
              <a:ext cx="5786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168720" y="2523960"/>
              <a:ext cx="5924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1081080" y="2744640"/>
              <a:ext cx="800892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077840" y="2965320"/>
              <a:ext cx="8012160" cy="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81080" y="3235320"/>
              <a:ext cx="800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081080" y="3473280"/>
              <a:ext cx="800892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081080" y="370188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081080" y="3951360"/>
              <a:ext cx="800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1081080" y="418896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1081080" y="442872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081080" y="4667040"/>
              <a:ext cx="80089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081080" y="4906800"/>
              <a:ext cx="800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081080" y="514188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081080" y="5381640"/>
              <a:ext cx="800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081080" y="561960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081080" y="6097680"/>
              <a:ext cx="800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1081080" y="5859000"/>
              <a:ext cx="800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081080" y="6337440"/>
              <a:ext cx="800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3638520" y="2376360"/>
              <a:ext cx="144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4299120" y="2376360"/>
              <a:ext cx="144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938840" y="2376360"/>
              <a:ext cx="144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5575320" y="2376360"/>
              <a:ext cx="144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6851520" y="2376360"/>
              <a:ext cx="18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7497720" y="2376360"/>
              <a:ext cx="18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8126280" y="2376360"/>
              <a:ext cx="18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8753400" y="2376360"/>
              <a:ext cx="18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6211800" y="2376360"/>
              <a:ext cx="1800" cy="14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370320" y="237636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608280" y="2376360"/>
              <a:ext cx="4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984480" y="237636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714920" y="2376360"/>
              <a:ext cx="270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309920" y="2376360"/>
              <a:ext cx="3384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916520" y="2376360"/>
              <a:ext cx="404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253120" y="2376360"/>
              <a:ext cx="338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545080" y="237636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861160" y="2378160"/>
              <a:ext cx="458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189840" y="2376360"/>
              <a:ext cx="33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532560" y="2376360"/>
              <a:ext cx="338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805080" y="237636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207200" y="2376360"/>
              <a:ext cx="335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4600" y="2376360"/>
              <a:ext cx="338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812000" y="237636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118360" y="237636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53320" y="2368440"/>
              <a:ext cx="18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469360" y="2376360"/>
              <a:ext cx="336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745480" y="2378160"/>
              <a:ext cx="473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077840" y="977760"/>
              <a:ext cx="0" cy="125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077840" y="2230560"/>
              <a:ext cx="0" cy="434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1077480" y="6575400"/>
              <a:ext cx="801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9075600" y="2230560"/>
              <a:ext cx="17640" cy="434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1077840" y="609120"/>
              <a:ext cx="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077840" y="609480"/>
              <a:ext cx="801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077840" y="2819520"/>
              <a:ext cx="224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077840" y="3262320"/>
              <a:ext cx="216684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058760" y="3473280"/>
              <a:ext cx="2168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3114 Supv FDS MO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077840" y="3998880"/>
              <a:ext cx="209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077840" y="3976560"/>
              <a:ext cx="2092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3116 Supv FDS Emp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058760" y="4449600"/>
              <a:ext cx="2224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bject Area 23:  Supv Equip Maint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077840" y="4680000"/>
              <a:ext cx="2241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3106 Supv Opr/Org PMCS on the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077840" y="421488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3026 Supv Road March Proc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096920" y="4910040"/>
              <a:ext cx="2241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 and the ICC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04840" y="5398920"/>
              <a:ext cx="2241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S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058760" y="5861160"/>
              <a:ext cx="220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bject Area 24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nitoring Sys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152360" y="1125360"/>
              <a:ext cx="216720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077840" y="6338880"/>
              <a:ext cx="231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4025 Monitor Road March Proc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077840" y="252576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kill Level 3 Task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077840" y="2759040"/>
              <a:ext cx="2205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bject Area 22:  Supv Empl, MO, and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114560" y="299736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oad Mar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114560" y="3262320"/>
              <a:ext cx="2168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077840" y="326232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3113 Supv FCS M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87560" y="3722760"/>
              <a:ext cx="2214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3115 Supv FCS Em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104840" y="5159520"/>
              <a:ext cx="221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3108 Supv Opr/Org PMCS on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077840" y="564516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kill Level 4 Task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096920" y="6108840"/>
              <a:ext cx="224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v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089000" y="6575400"/>
              <a:ext cx="258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rot="5376600">
              <a:off x="-1088640" y="3886920"/>
              <a:ext cx="410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5389800">
              <a:off x="223200" y="6275160"/>
              <a:ext cx="4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5400000">
              <a:off x="8756280" y="5886360"/>
              <a:ext cx="154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5" name=""/>
          <p:cNvGrpSpPr/>
          <p:nvPr/>
        </p:nvGrpSpPr>
        <p:grpSpPr>
          <a:xfrm>
            <a:off x="362160" y="609480"/>
            <a:ext cx="9289440" cy="6090840"/>
            <a:chOff x="362160" y="609480"/>
            <a:chExt cx="9289440" cy="6090840"/>
          </a:xfrm>
        </p:grpSpPr>
        <p:sp>
          <p:nvSpPr>
            <p:cNvPr id="1666" name=""/>
            <p:cNvSpPr/>
            <p:nvPr/>
          </p:nvSpPr>
          <p:spPr>
            <a:xfrm>
              <a:off x="8458200" y="6442200"/>
              <a:ext cx="99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009800" y="743040"/>
              <a:ext cx="6126120" cy="352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135920" y="743040"/>
              <a:ext cx="206352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5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282840" y="1095480"/>
              <a:ext cx="5916600" cy="139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622760" y="1235160"/>
              <a:ext cx="1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5275440" y="1235160"/>
              <a:ext cx="144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925960" y="1235160"/>
              <a:ext cx="1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578640" y="1235160"/>
              <a:ext cx="468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229520" y="123516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7889400" y="1235160"/>
              <a:ext cx="1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534520" y="1235160"/>
              <a:ext cx="144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9199440" y="743040"/>
              <a:ext cx="0" cy="182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970440" y="1235160"/>
              <a:ext cx="1116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3625920" y="2570040"/>
              <a:ext cx="1440" cy="38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3968640" y="2430360"/>
              <a:ext cx="12960" cy="400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300560" y="2570040"/>
              <a:ext cx="4680" cy="38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4622400" y="2430360"/>
              <a:ext cx="1800" cy="400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954680" y="2570040"/>
              <a:ext cx="1440" cy="38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5273280" y="2430360"/>
              <a:ext cx="1800" cy="400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605560" y="2570040"/>
              <a:ext cx="1440" cy="38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5925600" y="2430360"/>
              <a:ext cx="1800" cy="400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256440" y="2570040"/>
              <a:ext cx="1440" cy="38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6578640" y="2430360"/>
              <a:ext cx="1440" cy="400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910560" y="2570040"/>
              <a:ext cx="1440" cy="38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229520" y="2430360"/>
              <a:ext cx="0" cy="400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569360" y="2570040"/>
              <a:ext cx="1440" cy="38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7889400" y="2430360"/>
              <a:ext cx="1800" cy="400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211960" y="2570040"/>
              <a:ext cx="1800" cy="38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8534520" y="2430360"/>
              <a:ext cx="1440" cy="400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853480" y="2570040"/>
              <a:ext cx="1440" cy="386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009800" y="2289240"/>
              <a:ext cx="2273040" cy="280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12680" y="6438960"/>
              <a:ext cx="261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830760" y="6438960"/>
              <a:ext cx="2616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3282480" y="1095480"/>
              <a:ext cx="1800" cy="534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081080" y="1165320"/>
              <a:ext cx="227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352680" y="2286000"/>
              <a:ext cx="5911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282840" y="2289240"/>
              <a:ext cx="5913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282840" y="2430360"/>
              <a:ext cx="5913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146400" y="2570040"/>
              <a:ext cx="605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1012680" y="2781360"/>
              <a:ext cx="81838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009800" y="2992320"/>
              <a:ext cx="81867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012680" y="3251160"/>
              <a:ext cx="818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12680" y="3478320"/>
              <a:ext cx="818388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12680" y="3695760"/>
              <a:ext cx="818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012680" y="3933720"/>
              <a:ext cx="818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V="1">
              <a:off x="1012680" y="4160880"/>
              <a:ext cx="818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V="1">
              <a:off x="1012680" y="4389480"/>
              <a:ext cx="818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1012680" y="4616280"/>
              <a:ext cx="81838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12680" y="4844880"/>
              <a:ext cx="818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012680" y="5070600"/>
              <a:ext cx="818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012680" y="5299200"/>
              <a:ext cx="8183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012680" y="5526000"/>
              <a:ext cx="818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012680" y="5983200"/>
              <a:ext cx="818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1012680" y="5754240"/>
              <a:ext cx="8183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012680" y="6211800"/>
              <a:ext cx="818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3625920" y="2430360"/>
              <a:ext cx="14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V="1">
              <a:off x="4300560" y="2430360"/>
              <a:ext cx="14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4954680" y="2430360"/>
              <a:ext cx="14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V="1">
              <a:off x="5605560" y="2430360"/>
              <a:ext cx="14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6910560" y="2430360"/>
              <a:ext cx="14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7569360" y="2430360"/>
              <a:ext cx="14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8211960" y="2430360"/>
              <a:ext cx="180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8853480" y="2430360"/>
              <a:ext cx="14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V="1">
              <a:off x="6256440" y="2430360"/>
              <a:ext cx="14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352680" y="2430360"/>
              <a:ext cx="343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595680" y="2430360"/>
              <a:ext cx="482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81600" y="2430360"/>
              <a:ext cx="342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727520" y="2430360"/>
              <a:ext cx="274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313160" y="2430360"/>
              <a:ext cx="346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932360" y="2430360"/>
              <a:ext cx="414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275440" y="2430360"/>
              <a:ext cx="345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573880" y="2430360"/>
              <a:ext cx="344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897520" y="2432160"/>
              <a:ext cx="468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34120" y="2430360"/>
              <a:ext cx="342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583320" y="2430360"/>
              <a:ext cx="345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862320" y="242892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272360" y="2430360"/>
              <a:ext cx="342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35880" y="2430360"/>
              <a:ext cx="344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889760" y="2430360"/>
              <a:ext cx="344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204040" y="2430360"/>
              <a:ext cx="343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7829640" y="2424240"/>
              <a:ext cx="19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561520" y="2430360"/>
              <a:ext cx="344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845560" y="2432160"/>
              <a:ext cx="482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09800" y="1095480"/>
              <a:ext cx="0" cy="11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009800" y="2290680"/>
              <a:ext cx="0" cy="414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1009440" y="6438960"/>
              <a:ext cx="818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9182160" y="2290680"/>
              <a:ext cx="17280" cy="415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1009800" y="7426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09800" y="743040"/>
              <a:ext cx="818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09800" y="2852640"/>
              <a:ext cx="2290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09800" y="3273480"/>
              <a:ext cx="221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990720" y="3467160"/>
              <a:ext cx="221436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4023 Monitor PMCS on the Patriot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009800" y="3978360"/>
              <a:ext cx="213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19160" y="3948120"/>
              <a:ext cx="2136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bject Area 26: Monitoring FCS O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990720" y="4410000"/>
              <a:ext cx="2290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009800" y="4629240"/>
              <a:ext cx="2290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019160" y="4175280"/>
              <a:ext cx="2243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028880" y="4848120"/>
              <a:ext cx="2292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990720" y="5756400"/>
              <a:ext cx="257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D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085760" y="1235160"/>
              <a:ext cx="221472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009800" y="6230880"/>
              <a:ext cx="2368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4027 Supv Sust O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009800" y="2571840"/>
              <a:ext cx="229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bject Area 25:  Monitoring Patriot Sy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09800" y="2786040"/>
              <a:ext cx="227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09800" y="3022560"/>
              <a:ext cx="22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47600" y="3273480"/>
              <a:ext cx="221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009800" y="3273480"/>
              <a:ext cx="229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pr/Org Maint Proc in the Patriot FU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019160" y="3714840"/>
              <a:ext cx="2262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y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990720" y="5527800"/>
              <a:ext cx="2271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4005 Coord Maint Activities for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028880" y="5992920"/>
              <a:ext cx="2252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bject Area 28:  S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09800" y="5078520"/>
              <a:ext cx="22716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990720" y="5316480"/>
              <a:ext cx="2290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4004 Monitor FDS M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rot="5376600">
              <a:off x="-1183680" y="3886920"/>
              <a:ext cx="410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rot="5389800">
              <a:off x="254880" y="788760"/>
              <a:ext cx="4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rot="5400000">
              <a:off x="8755920" y="1258560"/>
              <a:ext cx="154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/>
          <p:cNvSpPr/>
          <p:nvPr/>
        </p:nvSpPr>
        <p:spPr>
          <a:xfrm>
            <a:off x="1019160" y="2795760"/>
            <a:ext cx="224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028880" y="2992320"/>
            <a:ext cx="2255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4-4022 Monitor Fault Isolation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028880" y="4162320"/>
            <a:ext cx="227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4000 Monitor FCS Em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056240" y="4433760"/>
            <a:ext cx="160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4001 Monitor FCS M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1070280" y="4662360"/>
            <a:ext cx="202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4002 Monitor PMCS of the F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028880" y="4848120"/>
            <a:ext cx="22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ject Area 27: Monitoring FDS O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028880" y="5078520"/>
            <a:ext cx="22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4003 Monitor FDS Emp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7" name=""/>
          <p:cNvGrpSpPr/>
          <p:nvPr/>
        </p:nvGrpSpPr>
        <p:grpSpPr>
          <a:xfrm>
            <a:off x="362160" y="667800"/>
            <a:ext cx="9289440" cy="6165720"/>
            <a:chOff x="362160" y="667800"/>
            <a:chExt cx="9289440" cy="6165720"/>
          </a:xfrm>
        </p:grpSpPr>
        <p:sp>
          <p:nvSpPr>
            <p:cNvPr id="1788" name=""/>
            <p:cNvSpPr/>
            <p:nvPr/>
          </p:nvSpPr>
          <p:spPr>
            <a:xfrm rot="5389800">
              <a:off x="254520" y="6351480"/>
              <a:ext cx="46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066680" y="668160"/>
              <a:ext cx="6105600" cy="365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72280" y="668160"/>
              <a:ext cx="2055960" cy="438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6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332160" y="1033560"/>
              <a:ext cx="5896080" cy="14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667400" y="1179360"/>
              <a:ext cx="144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5318280" y="1179360"/>
              <a:ext cx="144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965920" y="1179360"/>
              <a:ext cx="144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616800" y="1179360"/>
              <a:ext cx="468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264440" y="1179360"/>
              <a:ext cx="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7921800" y="1179360"/>
              <a:ext cx="144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566200" y="1179360"/>
              <a:ext cx="144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9228240" y="668160"/>
              <a:ext cx="0" cy="189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017960" y="1179360"/>
              <a:ext cx="936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3673080" y="2563920"/>
              <a:ext cx="1800" cy="400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4016520" y="2417760"/>
              <a:ext cx="10800" cy="415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346640" y="2563920"/>
              <a:ext cx="4680" cy="400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4667400" y="2417760"/>
              <a:ext cx="1440" cy="415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997520" y="2563920"/>
              <a:ext cx="1440" cy="400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5316120" y="2417760"/>
              <a:ext cx="1800" cy="415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645160" y="2563920"/>
              <a:ext cx="1440" cy="400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5965920" y="2417760"/>
              <a:ext cx="1440" cy="415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294600" y="2563920"/>
              <a:ext cx="1440" cy="400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616800" y="2417760"/>
              <a:ext cx="1440" cy="415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945480" y="2563920"/>
              <a:ext cx="1440" cy="400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264440" y="2417760"/>
              <a:ext cx="0" cy="415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02480" y="2563920"/>
              <a:ext cx="1800" cy="400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7921800" y="2417760"/>
              <a:ext cx="1440" cy="415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242200" y="2563920"/>
              <a:ext cx="1800" cy="400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8566200" y="2417760"/>
              <a:ext cx="1440" cy="415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881920" y="2563920"/>
              <a:ext cx="1800" cy="400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066680" y="2271600"/>
              <a:ext cx="2265480" cy="292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069920" y="6572160"/>
              <a:ext cx="2603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878280" y="6572160"/>
              <a:ext cx="260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458200" y="6573960"/>
              <a:ext cx="990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3332160" y="1033560"/>
              <a:ext cx="1440" cy="553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138320" y="1106640"/>
              <a:ext cx="2262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400560" y="2271600"/>
              <a:ext cx="58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332160" y="2271600"/>
              <a:ext cx="5892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332160" y="2417760"/>
              <a:ext cx="5892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197160" y="2563920"/>
              <a:ext cx="603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V="1">
              <a:off x="1069920" y="2781360"/>
              <a:ext cx="815508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066680" y="3000240"/>
              <a:ext cx="815832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069920" y="3268800"/>
              <a:ext cx="8155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069920" y="3503520"/>
              <a:ext cx="81550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069920" y="3730680"/>
              <a:ext cx="8155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069920" y="3976560"/>
              <a:ext cx="8155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V="1">
              <a:off x="1069920" y="4211640"/>
              <a:ext cx="8155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1069920" y="4448160"/>
              <a:ext cx="8155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1069920" y="4684680"/>
              <a:ext cx="815508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069920" y="4921200"/>
              <a:ext cx="8155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069920" y="5154480"/>
              <a:ext cx="8155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069920" y="5392800"/>
              <a:ext cx="8155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069920" y="5627520"/>
              <a:ext cx="8155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069920" y="6100920"/>
              <a:ext cx="8155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1069920" y="5864400"/>
              <a:ext cx="8155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069920" y="6337440"/>
              <a:ext cx="8155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3673440" y="2417760"/>
              <a:ext cx="18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V="1">
              <a:off x="4346640" y="241776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V="1">
              <a:off x="4997520" y="241776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5645160" y="241776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V="1">
              <a:off x="6945480" y="241776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7602480" y="2417760"/>
              <a:ext cx="18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V="1">
              <a:off x="8242200" y="2417760"/>
              <a:ext cx="18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V="1">
              <a:off x="8881920" y="2417760"/>
              <a:ext cx="18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6294600" y="241776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400560" y="2417760"/>
              <a:ext cx="342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643200" y="2417760"/>
              <a:ext cx="482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027320" y="2417760"/>
              <a:ext cx="343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770360" y="2417760"/>
              <a:ext cx="274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359240" y="2417760"/>
              <a:ext cx="344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975200" y="2417760"/>
              <a:ext cx="412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318280" y="2417760"/>
              <a:ext cx="344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614920" y="2417760"/>
              <a:ext cx="343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938920" y="2419200"/>
              <a:ext cx="465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272280" y="2417760"/>
              <a:ext cx="342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621480" y="2417760"/>
              <a:ext cx="344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898680" y="241776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7307280" y="2417760"/>
              <a:ext cx="341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569360" y="2417760"/>
              <a:ext cx="342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921800" y="2417760"/>
              <a:ext cx="342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236080" y="2417760"/>
              <a:ext cx="341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862760" y="2409840"/>
              <a:ext cx="19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591400" y="2417760"/>
              <a:ext cx="343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874000" y="2419200"/>
              <a:ext cx="480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066680" y="1033560"/>
              <a:ext cx="0" cy="123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066680" y="2273400"/>
              <a:ext cx="0" cy="429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1066320" y="6572160"/>
              <a:ext cx="816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9210600" y="2273400"/>
              <a:ext cx="17640" cy="430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1066680" y="66780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066680" y="668160"/>
              <a:ext cx="816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066680" y="3294000"/>
              <a:ext cx="22068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047600" y="3503520"/>
              <a:ext cx="2206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066680" y="4022640"/>
              <a:ext cx="2132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047600" y="4470480"/>
              <a:ext cx="2283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066680" y="4697280"/>
              <a:ext cx="2283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066680" y="4898880"/>
              <a:ext cx="220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143000" y="5919840"/>
              <a:ext cx="228276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143000" y="1179360"/>
              <a:ext cx="220680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066680" y="6356520"/>
              <a:ext cx="23590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104840" y="3294000"/>
              <a:ext cx="22082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066680" y="2563920"/>
              <a:ext cx="2283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4028 Monitor D2 of Patriot Equ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066680" y="2782800"/>
              <a:ext cx="2283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4029 Supv Perimeter De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rot="5392200">
              <a:off x="-1164240" y="3877200"/>
              <a:ext cx="410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rot="5400000">
              <a:off x="8756280" y="5886360"/>
              <a:ext cx="154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"/>
          <p:cNvSpPr/>
          <p:nvPr/>
        </p:nvSpPr>
        <p:spPr>
          <a:xfrm rot="5352600">
            <a:off x="6354720" y="3396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30480" y="671040"/>
            <a:ext cx="9317880" cy="6035400"/>
            <a:chOff x="330480" y="671040"/>
            <a:chExt cx="9317880" cy="6035400"/>
          </a:xfrm>
        </p:grpSpPr>
        <p:sp>
          <p:nvSpPr>
            <p:cNvPr id="49" name=""/>
            <p:cNvSpPr/>
            <p:nvPr/>
          </p:nvSpPr>
          <p:spPr>
            <a:xfrm rot="5389200">
              <a:off x="-677520" y="3794760"/>
              <a:ext cx="312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29600" y="6445080"/>
              <a:ext cx="816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680320" y="2438280"/>
              <a:ext cx="468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96920" y="6445080"/>
              <a:ext cx="2535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22400" y="750960"/>
              <a:ext cx="5946840" cy="350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53400" y="750960"/>
              <a:ext cx="2003400" cy="42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28840" y="1101600"/>
              <a:ext cx="5726160" cy="141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30600" y="1243080"/>
              <a:ext cx="180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164200" y="1243080"/>
              <a:ext cx="144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96000" y="1243080"/>
              <a:ext cx="144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29240" y="1243080"/>
              <a:ext cx="324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61040" y="1243080"/>
              <a:ext cx="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701120" y="1243080"/>
              <a:ext cx="144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26440" y="1243080"/>
              <a:ext cx="144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8954640" y="750960"/>
              <a:ext cx="17640" cy="182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16440" y="2295360"/>
              <a:ext cx="0" cy="9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561840" y="2576520"/>
              <a:ext cx="1800" cy="386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3895200" y="2436840"/>
              <a:ext cx="11160" cy="40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16320" y="2576520"/>
              <a:ext cx="4680" cy="386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530240" y="2436840"/>
              <a:ext cx="1800" cy="40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51360" y="2576520"/>
              <a:ext cx="1800" cy="386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162040" y="2436840"/>
              <a:ext cx="1800" cy="40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3160" y="2576520"/>
              <a:ext cx="1800" cy="386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796000" y="2436840"/>
              <a:ext cx="1440" cy="40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14960" y="2576520"/>
              <a:ext cx="1800" cy="386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428880" y="2436840"/>
              <a:ext cx="1800" cy="40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50000" y="2576520"/>
              <a:ext cx="1800" cy="386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61040" y="2436840"/>
              <a:ext cx="0" cy="40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89720" y="2576520"/>
              <a:ext cx="1800" cy="386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701120" y="2436840"/>
              <a:ext cx="1440" cy="40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13600" y="2576520"/>
              <a:ext cx="1800" cy="386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26440" y="2436840"/>
              <a:ext cx="1440" cy="400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36040" y="2576520"/>
              <a:ext cx="1440" cy="386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22400" y="2295360"/>
              <a:ext cx="2206440" cy="28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60920" y="6442200"/>
              <a:ext cx="2539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3228480" y="1101600"/>
              <a:ext cx="1800" cy="534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92240" y="1173240"/>
              <a:ext cx="2203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95800" y="2295360"/>
              <a:ext cx="5740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28840" y="2295360"/>
              <a:ext cx="5740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28840" y="2436840"/>
              <a:ext cx="5740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97080" y="2576520"/>
              <a:ext cx="5875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025640" y="2787480"/>
              <a:ext cx="79437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22400" y="2998800"/>
              <a:ext cx="79470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25640" y="3255840"/>
              <a:ext cx="794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25640" y="3483000"/>
              <a:ext cx="79437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25640" y="3701880"/>
              <a:ext cx="794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5640" y="393876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5640" y="4165200"/>
              <a:ext cx="794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025640" y="4393800"/>
              <a:ext cx="794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025640" y="4620960"/>
              <a:ext cx="794376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25640" y="484992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25640" y="507528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25640" y="530388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5640" y="5530680"/>
              <a:ext cx="794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25640" y="598644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025640" y="5758920"/>
              <a:ext cx="7943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25640" y="6215040"/>
              <a:ext cx="7943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562200" y="2436840"/>
              <a:ext cx="180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216320" y="2436840"/>
              <a:ext cx="180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851360" y="2436840"/>
              <a:ext cx="180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483160" y="2436840"/>
              <a:ext cx="180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750000" y="2436840"/>
              <a:ext cx="180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389720" y="2436840"/>
              <a:ext cx="180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013600" y="2436840"/>
              <a:ext cx="180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36040" y="2436840"/>
              <a:ext cx="144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114960" y="2436840"/>
              <a:ext cx="180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95800" y="243684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2320" y="2436840"/>
              <a:ext cx="468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06720" y="243684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30680" y="2436840"/>
              <a:ext cx="266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9280" y="2436840"/>
              <a:ext cx="33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9040" y="2436840"/>
              <a:ext cx="401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64200" y="2436840"/>
              <a:ext cx="33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56160" y="2436840"/>
              <a:ext cx="331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67560" y="2438280"/>
              <a:ext cx="453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3000" y="2436840"/>
              <a:ext cx="33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32480" y="2436840"/>
              <a:ext cx="338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3560" y="243684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01000" y="2436840"/>
              <a:ext cx="331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56600" y="2436840"/>
              <a:ext cx="334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01120" y="243684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5680" y="243684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42080" y="2428920"/>
              <a:ext cx="18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53440" y="243684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22400" y="1101600"/>
              <a:ext cx="0" cy="11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22400" y="2297160"/>
              <a:ext cx="0" cy="414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022400" y="6442200"/>
              <a:ext cx="795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8955000" y="2297160"/>
              <a:ext cx="17640" cy="41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022400" y="750960"/>
              <a:ext cx="0" cy="35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2400" y="757080"/>
              <a:ext cx="795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22400" y="257796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kill Level 1 Task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96920" y="2852640"/>
              <a:ext cx="1852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22400" y="2789280"/>
              <a:ext cx="207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1: ICC Empl, Init, MO, and PMC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0720" y="304308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05 Perf ICC Em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22400" y="3281400"/>
              <a:ext cx="214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09 Perf ICC Initi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22400" y="3492360"/>
              <a:ext cx="2149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17 Perf ICC M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2400" y="3720960"/>
              <a:ext cx="2224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21 Perf Opr/Org PMCS on ICC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22400" y="3984480"/>
              <a:ext cx="20764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22400" y="3940200"/>
              <a:ext cx="2178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2:  ECS Empl, Init, MO, and PMC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6560" y="4398840"/>
              <a:ext cx="2174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07 Perf ECS Initi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76320" y="463716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15 Perf ECS M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06560" y="416556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03 Perf ECS Em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39680" y="4827600"/>
              <a:ext cx="1843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04760" y="4851360"/>
              <a:ext cx="2374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20 Perf Opr/Org PMCS on EC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39680" y="5073480"/>
              <a:ext cx="2224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3:  RS Empl, MO, and PMCS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22400" y="530208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100 Perf RS Em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22400" y="5545080"/>
              <a:ext cx="2224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104 Perf RS M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23840" y="5773680"/>
              <a:ext cx="2205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113 Perf Opr/Org PMCS on 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96920" y="1243080"/>
              <a:ext cx="214956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8713080" y="1360080"/>
              <a:ext cx="162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389800">
              <a:off x="222840" y="779400"/>
              <a:ext cx="46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30480" y="761760"/>
            <a:ext cx="9321120" cy="5865480"/>
            <a:chOff x="330480" y="761760"/>
            <a:chExt cx="9321120" cy="5865480"/>
          </a:xfrm>
        </p:grpSpPr>
        <p:sp>
          <p:nvSpPr>
            <p:cNvPr id="162" name=""/>
            <p:cNvSpPr/>
            <p:nvPr/>
          </p:nvSpPr>
          <p:spPr>
            <a:xfrm rot="5389800">
              <a:off x="222840" y="6203880"/>
              <a:ext cx="46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8751960" y="5682240"/>
              <a:ext cx="1552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386800">
              <a:off x="-966960" y="3657600"/>
              <a:ext cx="382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64440" y="6378480"/>
              <a:ext cx="8920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10480" y="2413080"/>
              <a:ext cx="465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39760" y="6365880"/>
              <a:ext cx="251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8480" y="762120"/>
              <a:ext cx="5891040" cy="345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59520" y="762120"/>
              <a:ext cx="1984320" cy="4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54400" y="1108080"/>
              <a:ext cx="5689440" cy="138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43560" y="1246320"/>
              <a:ext cx="144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169960" y="1246320"/>
              <a:ext cx="180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97440" y="1246320"/>
              <a:ext cx="180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24560" y="1246320"/>
              <a:ext cx="468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51680" y="1246320"/>
              <a:ext cx="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684560" y="1246320"/>
              <a:ext cx="180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04120" y="1246320"/>
              <a:ext cx="180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943840" y="762120"/>
              <a:ext cx="0" cy="179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16440" y="1246320"/>
              <a:ext cx="79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583080" y="2558880"/>
              <a:ext cx="1440" cy="380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914280" y="2421000"/>
              <a:ext cx="972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2160" y="2558880"/>
              <a:ext cx="5040" cy="380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543560" y="2421000"/>
              <a:ext cx="144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62520" y="2558880"/>
              <a:ext cx="1440" cy="380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168880" y="2421000"/>
              <a:ext cx="144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7840" y="2558880"/>
              <a:ext cx="1800" cy="380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797080" y="2421000"/>
              <a:ext cx="180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13520" y="2558880"/>
              <a:ext cx="1440" cy="380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424200" y="2421000"/>
              <a:ext cx="180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43880" y="2558880"/>
              <a:ext cx="1440" cy="380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51680" y="2421000"/>
              <a:ext cx="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77120" y="2558880"/>
              <a:ext cx="1440" cy="380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684560" y="2421000"/>
              <a:ext cx="180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94520" y="2558880"/>
              <a:ext cx="1800" cy="380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303760" y="2421000"/>
              <a:ext cx="180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10480" y="2558880"/>
              <a:ext cx="1800" cy="380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8480" y="2282760"/>
              <a:ext cx="2185920" cy="27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81440" y="6362640"/>
              <a:ext cx="2517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54400" y="1108080"/>
              <a:ext cx="1440" cy="525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36520" y="1176480"/>
              <a:ext cx="218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87880" y="2286000"/>
              <a:ext cx="5688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4400" y="2282760"/>
              <a:ext cx="5688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54400" y="2421000"/>
              <a:ext cx="568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4080" y="2558880"/>
              <a:ext cx="581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071720" y="2766600"/>
              <a:ext cx="78706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68480" y="2973240"/>
              <a:ext cx="787392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71720" y="3227400"/>
              <a:ext cx="7870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71720" y="3451320"/>
              <a:ext cx="787068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71720" y="3665520"/>
              <a:ext cx="7870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71720" y="3898800"/>
              <a:ext cx="7870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071720" y="4122720"/>
              <a:ext cx="7870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071720" y="4347720"/>
              <a:ext cx="7870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071720" y="4570200"/>
              <a:ext cx="787068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1720" y="4795920"/>
              <a:ext cx="7870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71720" y="5018040"/>
              <a:ext cx="7870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71720" y="5241960"/>
              <a:ext cx="7870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71720" y="5465880"/>
              <a:ext cx="7870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71720" y="5913360"/>
              <a:ext cx="7870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071720" y="5691240"/>
              <a:ext cx="7870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1720" y="6138720"/>
              <a:ext cx="7870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3583080" y="2420640"/>
              <a:ext cx="14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232160" y="2420640"/>
              <a:ext cx="180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862520" y="2420640"/>
              <a:ext cx="14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5487840" y="2420640"/>
              <a:ext cx="180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743880" y="2420640"/>
              <a:ext cx="14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377120" y="2420640"/>
              <a:ext cx="14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7994520" y="2420640"/>
              <a:ext cx="180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8610480" y="2420640"/>
              <a:ext cx="180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113520" y="2420640"/>
              <a:ext cx="14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19560" y="2421000"/>
              <a:ext cx="331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54280" y="2421000"/>
              <a:ext cx="465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24360" y="2421000"/>
              <a:ext cx="331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41840" y="2421000"/>
              <a:ext cx="263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45120" y="2421000"/>
              <a:ext cx="331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40200" y="2421000"/>
              <a:ext cx="398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70320" y="2421000"/>
              <a:ext cx="335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59400" y="242100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70440" y="2422440"/>
              <a:ext cx="44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93000" y="242100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29240" y="2421000"/>
              <a:ext cx="331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95640" y="242100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93080" y="2421000"/>
              <a:ext cx="32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43640" y="2421000"/>
              <a:ext cx="331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83480" y="2421000"/>
              <a:ext cx="331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6600" y="2421000"/>
              <a:ext cx="330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4800" y="2413080"/>
              <a:ext cx="185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31120" y="242100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68480" y="1108080"/>
              <a:ext cx="0" cy="11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68480" y="2284560"/>
              <a:ext cx="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1068480" y="6362640"/>
              <a:ext cx="78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928000" y="2284200"/>
              <a:ext cx="15840" cy="408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068480" y="761760"/>
              <a:ext cx="0" cy="34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68480" y="762120"/>
              <a:ext cx="78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39760" y="2836800"/>
              <a:ext cx="1836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4320" y="2779560"/>
              <a:ext cx="205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&amp;E and PMC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68480" y="2994120"/>
              <a:ext cx="2373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115 Perf Org Maint on the AM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68480" y="3244680"/>
              <a:ext cx="213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00 Empl the BM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8480" y="3459240"/>
              <a:ext cx="2219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02 Empl the 15-KW Gen 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68480" y="3668760"/>
              <a:ext cx="213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11 MO the BM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68480" y="3943440"/>
              <a:ext cx="205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52640" y="3900600"/>
              <a:ext cx="2146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14 MO the 15-KW Gen 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54080" y="4576680"/>
              <a:ext cx="2219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22 Perf PMCS on the TM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52640" y="4133880"/>
              <a:ext cx="227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19 Perf Oper PMCS on th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68480" y="4775040"/>
              <a:ext cx="213048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84320" y="47736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54080" y="4805280"/>
              <a:ext cx="220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509 Perf AMG M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50840" y="5027760"/>
              <a:ext cx="220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510 Perf AMG Em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54080" y="5253120"/>
              <a:ext cx="220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511 Perf EPP M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50840" y="5478480"/>
              <a:ext cx="220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512 Perf EPP Emp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17720" y="5700600"/>
              <a:ext cx="22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5:  SINCGARS O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39760" y="1246320"/>
              <a:ext cx="213192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54080" y="5915160"/>
              <a:ext cx="220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3-587-0058 Perf Opr’s Tblsht 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89000" y="2560680"/>
              <a:ext cx="2130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4:  Patriot Spt and Maint Equip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54280" y="4316400"/>
              <a:ext cx="2187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84320" y="4341960"/>
              <a:ext cx="220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triot Spt and Maint Equ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9920" y="6148440"/>
              <a:ext cx="220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NCGA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30480" y="608040"/>
            <a:ext cx="9321120" cy="6173280"/>
            <a:chOff x="330480" y="608040"/>
            <a:chExt cx="9321120" cy="6173280"/>
          </a:xfrm>
        </p:grpSpPr>
        <p:sp>
          <p:nvSpPr>
            <p:cNvPr id="279" name=""/>
            <p:cNvSpPr/>
            <p:nvPr/>
          </p:nvSpPr>
          <p:spPr>
            <a:xfrm>
              <a:off x="8094600" y="6519960"/>
              <a:ext cx="95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4200">
              <a:off x="-999000" y="3943080"/>
              <a:ext cx="39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69440" y="2438280"/>
              <a:ext cx="458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70000" y="6519960"/>
              <a:ext cx="2489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9600" y="2322360"/>
              <a:ext cx="563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98720" y="717480"/>
              <a:ext cx="583380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32520" y="717480"/>
              <a:ext cx="1967040" cy="430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3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63760" y="1076400"/>
              <a:ext cx="5635800" cy="142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40320" y="121932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160960" y="121932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81600" y="1219320"/>
              <a:ext cx="180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02240" y="1219320"/>
              <a:ext cx="50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23240" y="1219320"/>
              <a:ext cx="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651800" y="1219320"/>
              <a:ext cx="144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65960" y="1219320"/>
              <a:ext cx="180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899560" y="717480"/>
              <a:ext cx="0" cy="186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17880" y="1219320"/>
              <a:ext cx="9720" cy="10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588840" y="2579760"/>
              <a:ext cx="180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3916080" y="2436840"/>
              <a:ext cx="1116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232160" y="2579760"/>
              <a:ext cx="50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540320" y="243684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5460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5159520" y="243684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75240" y="2579760"/>
              <a:ext cx="180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5781240" y="2436840"/>
              <a:ext cx="180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44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401880" y="2436840"/>
              <a:ext cx="180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1832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023240" y="2436840"/>
              <a:ext cx="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4544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651800" y="2436840"/>
              <a:ext cx="144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95816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265600" y="2436840"/>
              <a:ext cx="1800" cy="408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69440" y="2579760"/>
              <a:ext cx="1440" cy="394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98720" y="2292480"/>
              <a:ext cx="2165040" cy="287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84680" y="6519960"/>
              <a:ext cx="2492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263400" y="1076400"/>
              <a:ext cx="1800" cy="544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66760" y="1147680"/>
              <a:ext cx="216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63760" y="2292480"/>
              <a:ext cx="5632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63760" y="2436840"/>
              <a:ext cx="5632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33800" y="2579760"/>
              <a:ext cx="576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100160" y="2793960"/>
              <a:ext cx="77961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98720" y="3009960"/>
              <a:ext cx="77976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00160" y="3271680"/>
              <a:ext cx="7796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00160" y="3503520"/>
              <a:ext cx="77961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00160" y="3726000"/>
              <a:ext cx="779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00160" y="3968640"/>
              <a:ext cx="7796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100160" y="4200120"/>
              <a:ext cx="7796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1100160" y="4432320"/>
              <a:ext cx="779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1100160" y="4663800"/>
              <a:ext cx="779616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00160" y="4897440"/>
              <a:ext cx="779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00160" y="5127480"/>
              <a:ext cx="7796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00160" y="5359320"/>
              <a:ext cx="7796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00160" y="5591160"/>
              <a:ext cx="7796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0160" y="6056280"/>
              <a:ext cx="7796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1100160" y="5824080"/>
              <a:ext cx="7796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00160" y="6289560"/>
              <a:ext cx="7796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589200" y="243648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232160" y="243648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85460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475240" y="243648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71832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34544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95816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856944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094440" y="24364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28920" y="2436840"/>
              <a:ext cx="327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60760" y="2436840"/>
              <a:ext cx="4586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927600" y="2436840"/>
              <a:ext cx="32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38600" y="2436840"/>
              <a:ext cx="262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45120" y="2436840"/>
              <a:ext cx="32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34080" y="2436840"/>
              <a:ext cx="39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60960" y="243684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46800" y="2436840"/>
              <a:ext cx="32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54600" y="2438280"/>
              <a:ext cx="444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73920" y="2436840"/>
              <a:ext cx="32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07280" y="2436840"/>
              <a:ext cx="328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71880" y="243684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64280" y="2436840"/>
              <a:ext cx="325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13760" y="2436840"/>
              <a:ext cx="328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51800" y="2436840"/>
              <a:ext cx="32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50240" y="2436840"/>
              <a:ext cx="32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94560" y="2428920"/>
              <a:ext cx="17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91520" y="2436840"/>
              <a:ext cx="32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98720" y="1076400"/>
              <a:ext cx="0" cy="121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8720" y="2293920"/>
              <a:ext cx="0" cy="4226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098360" y="6519960"/>
              <a:ext cx="780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8881920" y="2293920"/>
              <a:ext cx="17640" cy="422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098720" y="71712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98720" y="717480"/>
              <a:ext cx="780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98720" y="3290760"/>
              <a:ext cx="2328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3-587-2075  Oper SINCGARS Data Dev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81080" y="3755880"/>
              <a:ext cx="2184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108 Oper the HEMTT Series Ve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81080" y="3986280"/>
              <a:ext cx="212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111 Oper Crane Mounted on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98720" y="4014720"/>
              <a:ext cx="203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16000" y="4219560"/>
              <a:ext cx="2092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-Ton Ve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90440" y="4684680"/>
              <a:ext cx="218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m-and-Hand Signa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81080" y="4915080"/>
              <a:ext cx="2182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51-721-1364 Drive Veh wi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90440" y="4432320"/>
              <a:ext cx="2181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112 Signal Crane Opr Using Std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98720" y="4875120"/>
              <a:ext cx="210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16000" y="4875120"/>
              <a:ext cx="1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01600" y="5146560"/>
              <a:ext cx="2106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miautomatic Transmi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81080" y="5361120"/>
              <a:ext cx="2182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7:  STO Techniqu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92240" y="5610240"/>
              <a:ext cx="218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31-504-1008 Oper the M8A1 Alarm Sy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90440" y="5843520"/>
              <a:ext cx="218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513 Perf BDAR of Patriot Equi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90440" y="6058080"/>
              <a:ext cx="218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8:  Perf Denial and Destruction (D2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70000" y="1219320"/>
              <a:ext cx="210960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70000" y="3225960"/>
              <a:ext cx="36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98720" y="3519360"/>
              <a:ext cx="2230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6:  Road March and Vehicle Oper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82520" y="6305400"/>
              <a:ext cx="2181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132 Perf D2 of the Patriot Sy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98720" y="2593800"/>
              <a:ext cx="2328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3-587-2070 Oper SINCGARS Singl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389800">
              <a:off x="222840" y="717480"/>
              <a:ext cx="46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8778960" y="1234080"/>
              <a:ext cx="149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81080" y="2808360"/>
              <a:ext cx="2328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71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nnel (SC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17720" y="3040200"/>
              <a:ext cx="240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3-587-2071 Oper Secure SINCGARS FH N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30480" y="771480"/>
            <a:ext cx="9321120" cy="6166800"/>
            <a:chOff x="330480" y="771480"/>
            <a:chExt cx="9321120" cy="6166800"/>
          </a:xfrm>
        </p:grpSpPr>
        <p:sp>
          <p:nvSpPr>
            <p:cNvPr id="395" name=""/>
            <p:cNvSpPr/>
            <p:nvPr/>
          </p:nvSpPr>
          <p:spPr>
            <a:xfrm rot="5416800">
              <a:off x="-951120" y="3911400"/>
              <a:ext cx="382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30400" y="6676920"/>
              <a:ext cx="2674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259840" y="6675480"/>
              <a:ext cx="960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77440" y="2521080"/>
              <a:ext cx="369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00160" y="771480"/>
              <a:ext cx="5918040" cy="365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018200" y="771480"/>
              <a:ext cx="1992600" cy="43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97240" y="1136520"/>
              <a:ext cx="5713560" cy="144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91080" y="1281240"/>
              <a:ext cx="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21440" y="1281240"/>
              <a:ext cx="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851440" y="1281240"/>
              <a:ext cx="180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1800" y="1281240"/>
              <a:ext cx="324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10360" y="1281240"/>
              <a:ext cx="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746480" y="1281240"/>
              <a:ext cx="180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369280" y="1281240"/>
              <a:ext cx="144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010800" y="771480"/>
              <a:ext cx="0" cy="189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2520" y="1281240"/>
              <a:ext cx="7920" cy="10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629160" y="2665440"/>
              <a:ext cx="1440" cy="400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3960360" y="2519280"/>
              <a:ext cx="9720" cy="415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80040" y="2665440"/>
              <a:ext cx="4680" cy="400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591080" y="2519280"/>
              <a:ext cx="0" cy="415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11840" y="2665440"/>
              <a:ext cx="1440" cy="400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219280" y="2519280"/>
              <a:ext cx="1800" cy="415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40400" y="2665440"/>
              <a:ext cx="1440" cy="400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5851080" y="2519280"/>
              <a:ext cx="1800" cy="415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167520" y="2665440"/>
              <a:ext cx="3240" cy="400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481800" y="2519280"/>
              <a:ext cx="1440" cy="415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99320" y="2665440"/>
              <a:ext cx="1440" cy="400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10360" y="2519280"/>
              <a:ext cx="0" cy="415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435800" y="2665440"/>
              <a:ext cx="1800" cy="400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746480" y="2519280"/>
              <a:ext cx="1800" cy="415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58240" y="2665440"/>
              <a:ext cx="1440" cy="400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8369280" y="2519280"/>
              <a:ext cx="1440" cy="415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677440" y="2665440"/>
              <a:ext cx="1440" cy="4006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00160" y="2373480"/>
              <a:ext cx="2197080" cy="291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27520" y="6672240"/>
              <a:ext cx="252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297240" y="1136520"/>
              <a:ext cx="1440" cy="553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70000" y="1208160"/>
              <a:ext cx="219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98760" y="2389320"/>
              <a:ext cx="571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97240" y="2373480"/>
              <a:ext cx="5710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97240" y="2519280"/>
              <a:ext cx="5710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65480" y="2665440"/>
              <a:ext cx="5845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103400" y="2882880"/>
              <a:ext cx="79041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00160" y="3103560"/>
              <a:ext cx="79074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03400" y="3370320"/>
              <a:ext cx="7904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03400" y="3605040"/>
              <a:ext cx="790416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03400" y="3830760"/>
              <a:ext cx="7904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03400" y="4076640"/>
              <a:ext cx="7904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1103400" y="4311720"/>
              <a:ext cx="7904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1103400" y="4549320"/>
              <a:ext cx="7904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1103400" y="4786200"/>
              <a:ext cx="7904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03400" y="5022720"/>
              <a:ext cx="7904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03400" y="5256360"/>
              <a:ext cx="7904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103400" y="5492880"/>
              <a:ext cx="7904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03400" y="5727600"/>
              <a:ext cx="7904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03400" y="6200640"/>
              <a:ext cx="7904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103400" y="5963760"/>
              <a:ext cx="7904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03400" y="6437160"/>
              <a:ext cx="7904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629160" y="251928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280040" y="251928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911840" y="251928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540400" y="251928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799320" y="251928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435800" y="2519280"/>
              <a:ext cx="18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8058240" y="251928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8677440" y="2519280"/>
              <a:ext cx="14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167520" y="2519280"/>
              <a:ext cx="324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62400" y="2519280"/>
              <a:ext cx="331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98920" y="2519280"/>
              <a:ext cx="465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70440" y="251928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91160" y="2519280"/>
              <a:ext cx="266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90840" y="2519280"/>
              <a:ext cx="333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89520" y="2519280"/>
              <a:ext cx="399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21440" y="251928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10160" y="2519280"/>
              <a:ext cx="331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23000" y="2519280"/>
              <a:ext cx="452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46640" y="2519280"/>
              <a:ext cx="3351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85040" y="2519280"/>
              <a:ext cx="331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52880" y="252108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49960" y="2519280"/>
              <a:ext cx="330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07360" y="252108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46840" y="2519280"/>
              <a:ext cx="330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48520" y="251928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83480" y="2511360"/>
              <a:ext cx="193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96280" y="251928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00160" y="1136520"/>
              <a:ext cx="0" cy="1236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00160" y="2374920"/>
              <a:ext cx="0" cy="429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100160" y="6672240"/>
              <a:ext cx="791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8994600" y="2374920"/>
              <a:ext cx="16200" cy="430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1100160" y="771480"/>
              <a:ext cx="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00160" y="771480"/>
              <a:ext cx="791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00160" y="2666880"/>
              <a:ext cx="2212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9:  TAMMS Procedur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77920" y="2949480"/>
              <a:ext cx="1841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00160" y="2884320"/>
              <a:ext cx="220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116 Prep DA Form 2404 or DA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84320" y="3112920"/>
              <a:ext cx="2212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m 5988-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00160" y="3395520"/>
              <a:ext cx="213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500 Operate PA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00160" y="3614760"/>
              <a:ext cx="213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501 Perf PMCS on PA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84320" y="3863880"/>
              <a:ext cx="213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10:  AD Operations at the I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0160" y="4122720"/>
              <a:ext cx="20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00160" y="4097160"/>
              <a:ext cx="2066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72 Activate the I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157400" y="4562640"/>
              <a:ext cx="2212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rimary/Secondary Network on the I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82520" y="4335480"/>
              <a:ext cx="2248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73 Change Config From On-Lin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00160" y="4998960"/>
              <a:ext cx="213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14560" y="4998960"/>
              <a:ext cx="193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84320" y="4809960"/>
              <a:ext cx="2212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75 Deactivate the I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084320" y="5043600"/>
              <a:ext cx="2498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80 Eval Preengagement Data-I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082520" y="5513400"/>
              <a:ext cx="221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82 Initiate Tgt Eng-I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82520" y="5727600"/>
              <a:ext cx="221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83 Perf Fire Plt Data Base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77920" y="1281240"/>
              <a:ext cx="213516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082520" y="5257800"/>
              <a:ext cx="2287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81 Initiate Jammer Eng-I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82520" y="5965920"/>
              <a:ext cx="2213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arison-I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0160" y="6224760"/>
              <a:ext cx="2139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84 Perf Fire Plt Init Spt-I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389800">
              <a:off x="223200" y="6503760"/>
              <a:ext cx="4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8766360" y="5972760"/>
              <a:ext cx="152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5389800">
            <a:off x="223200" y="788760"/>
            <a:ext cx="4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5400000">
            <a:off x="8736480" y="135324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P 44-14E24-SM-T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234280" y="6280200"/>
            <a:ext cx="83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SAPPC VI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5396400">
            <a:off x="-960840" y="3570120"/>
            <a:ext cx="38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ure B-1.  Completed sample of DA Form 5165-R (continu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95800" y="2289240"/>
            <a:ext cx="571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601120" y="2394000"/>
            <a:ext cx="466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093680" y="776160"/>
            <a:ext cx="5923080" cy="33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IELD EXPEDIENT SQUAD BOOK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or use of  this  form, see AR 350-57, the proponent agency is ODCSOPS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016760" y="776160"/>
            <a:ext cx="1995480" cy="40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" bIns="40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HE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 OF 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92560" y="1116000"/>
            <a:ext cx="571968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OLDIER’S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86400" y="125244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219280" y="125244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848200" y="125244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477120" y="1252440"/>
            <a:ext cx="468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08920" y="1252440"/>
            <a:ext cx="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746480" y="1252440"/>
            <a:ext cx="180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369280" y="1252440"/>
            <a:ext cx="144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012240" y="776160"/>
            <a:ext cx="0" cy="176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57480" y="1252440"/>
            <a:ext cx="9720" cy="10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622680" y="2541600"/>
            <a:ext cx="1440" cy="37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3955680" y="2406600"/>
            <a:ext cx="11160" cy="387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76800" y="2541600"/>
            <a:ext cx="3240" cy="37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586400" y="2406600"/>
            <a:ext cx="1440" cy="387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908600" y="2541600"/>
            <a:ext cx="1440" cy="37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218200" y="2406600"/>
            <a:ext cx="1440" cy="387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37160" y="2541600"/>
            <a:ext cx="1800" cy="37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847840" y="2406600"/>
            <a:ext cx="1800" cy="387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167520" y="2541600"/>
            <a:ext cx="0" cy="37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477120" y="2406600"/>
            <a:ext cx="1440" cy="387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99320" y="2541600"/>
            <a:ext cx="1440" cy="37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08920" y="2406600"/>
            <a:ext cx="0" cy="387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435800" y="2541600"/>
            <a:ext cx="1800" cy="37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7746480" y="2406600"/>
            <a:ext cx="1800" cy="387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056440" y="2541600"/>
            <a:ext cx="1800" cy="37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8369280" y="2406600"/>
            <a:ext cx="1440" cy="387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677440" y="2541600"/>
            <a:ext cx="1440" cy="373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93680" y="2270160"/>
            <a:ext cx="2198880" cy="271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ASK NUMBER AND SHORT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98720" y="6276960"/>
            <a:ext cx="252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 FORM 5165-R, SEP 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22840" y="6276960"/>
            <a:ext cx="25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DITION OF DEC 82 IS OBSOLE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292560" y="1116000"/>
            <a:ext cx="1440" cy="516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62080" y="1185840"/>
            <a:ext cx="219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USER 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92560" y="2270160"/>
            <a:ext cx="5716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92560" y="2406600"/>
            <a:ext cx="5716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60800" y="2541600"/>
            <a:ext cx="5851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1098720" y="2744640"/>
            <a:ext cx="79102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98720" y="2978280"/>
            <a:ext cx="7913520" cy="2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98720" y="3198960"/>
            <a:ext cx="791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98720" y="3417840"/>
            <a:ext cx="79102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98720" y="3629160"/>
            <a:ext cx="79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098720" y="3859200"/>
            <a:ext cx="791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098720" y="4076280"/>
            <a:ext cx="7910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098720" y="4299120"/>
            <a:ext cx="791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098720" y="4517640"/>
            <a:ext cx="7910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98720" y="4738680"/>
            <a:ext cx="791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98720" y="4957920"/>
            <a:ext cx="791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98720" y="5176800"/>
            <a:ext cx="7910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98720" y="5397480"/>
            <a:ext cx="791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98720" y="5837400"/>
            <a:ext cx="791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098720" y="5618160"/>
            <a:ext cx="791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098720" y="6058080"/>
            <a:ext cx="791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622680" y="2406240"/>
            <a:ext cx="1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4276800" y="240624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4908600" y="2406240"/>
            <a:ext cx="1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537160" y="2406240"/>
            <a:ext cx="18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799320" y="2406240"/>
            <a:ext cx="1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35800" y="2406240"/>
            <a:ext cx="18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056440" y="2406240"/>
            <a:ext cx="180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8677440" y="2406240"/>
            <a:ext cx="144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6167520" y="2406240"/>
            <a:ext cx="0" cy="1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59160" y="240660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594240" y="2406600"/>
            <a:ext cx="465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7200" y="2406600"/>
            <a:ext cx="330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87920" y="2406600"/>
            <a:ext cx="266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86160" y="2406600"/>
            <a:ext cx="336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 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86280" y="2406600"/>
            <a:ext cx="399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19640" y="2406600"/>
            <a:ext cx="3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08720" y="2406600"/>
            <a:ext cx="331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9760" y="2408400"/>
            <a:ext cx="452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145200" y="2406600"/>
            <a:ext cx="330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1800" y="2406600"/>
            <a:ext cx="33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52880" y="2406600"/>
            <a:ext cx="426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49960" y="2406600"/>
            <a:ext cx="330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04120" y="2406600"/>
            <a:ext cx="333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46840" y="2406600"/>
            <a:ext cx="331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050320" y="2406600"/>
            <a:ext cx="331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683480" y="2397240"/>
            <a:ext cx="19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97720" y="2406600"/>
            <a:ext cx="330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93680" y="1116000"/>
            <a:ext cx="0" cy="115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271600"/>
            <a:ext cx="0" cy="400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093680" y="6276960"/>
            <a:ext cx="791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8994600" y="2271240"/>
            <a:ext cx="17640" cy="400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1093680" y="77616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93680" y="776160"/>
            <a:ext cx="7918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93680" y="2763720"/>
            <a:ext cx="218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87 Perf Friendly Protect-IC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109520" y="2776680"/>
            <a:ext cx="184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84320" y="2978280"/>
            <a:ext cx="206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4-1130 Perf Data Modem O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098720" y="2549520"/>
            <a:ext cx="221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 10:  AD Operations at the ICC (c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84320" y="3425760"/>
            <a:ext cx="21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71 Activate Fire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84320" y="3641760"/>
            <a:ext cx="21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74 Deactivate Fire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084320" y="3859200"/>
            <a:ext cx="214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76 Eng Jammers on the E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93680" y="3902040"/>
            <a:ext cx="206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084320" y="4084560"/>
            <a:ext cx="206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78 Eng Targets on the E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84320" y="4533840"/>
            <a:ext cx="229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85 Perf FP to FP Ops at the E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093680" y="4716360"/>
            <a:ext cx="2143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9520" y="4716360"/>
            <a:ext cx="18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84320" y="4748040"/>
            <a:ext cx="221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86 Perf Friendly Protect-E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84320" y="4964040"/>
            <a:ext cx="25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88 Perf Msl Hazard/Misfire Pro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93680" y="5402160"/>
            <a:ext cx="221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89 Perf Mode Trans Proc-E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084320" y="5624640"/>
            <a:ext cx="229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90 Perf Reinitialization on the E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84320" y="5829480"/>
            <a:ext cx="226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91 Perf Saturation Alleviation Proc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168560" y="1252440"/>
            <a:ext cx="214128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4-14E24-SM-T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S 14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riot Fire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hanced Operator/Maintai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84320" y="4308480"/>
            <a:ext cx="25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79 Eval Preengagement Data-E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93680" y="5870520"/>
            <a:ext cx="22161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79640" y="6049800"/>
            <a:ext cx="229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92 Perf Sys Reorientation an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079640" y="3211560"/>
            <a:ext cx="221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 11:  AD Operations at the E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084320" y="5175360"/>
            <a:ext cx="25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0480" y="701280"/>
            <a:ext cx="9286200" cy="6080040"/>
            <a:chOff x="330480" y="701280"/>
            <a:chExt cx="9286200" cy="6080040"/>
          </a:xfrm>
        </p:grpSpPr>
        <p:sp>
          <p:nvSpPr>
            <p:cNvPr id="626" name=""/>
            <p:cNvSpPr/>
            <p:nvPr/>
          </p:nvSpPr>
          <p:spPr>
            <a:xfrm rot="5401200">
              <a:off x="-990000" y="3589560"/>
              <a:ext cx="3873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211960" y="6519960"/>
              <a:ext cx="808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621640" y="2413080"/>
              <a:ext cx="465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62080" y="6519960"/>
              <a:ext cx="2509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89000" y="701640"/>
              <a:ext cx="5886360" cy="358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75360" y="701640"/>
              <a:ext cx="1982880" cy="430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6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73480" y="1060560"/>
              <a:ext cx="5684760" cy="142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60840" y="1203480"/>
              <a:ext cx="180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187960" y="1203480"/>
              <a:ext cx="144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13280" y="1203480"/>
              <a:ext cx="180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38960" y="1203480"/>
              <a:ext cx="468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64280" y="1203480"/>
              <a:ext cx="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698960" y="1203480"/>
              <a:ext cx="180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8520" y="1203480"/>
              <a:ext cx="144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958240" y="701640"/>
              <a:ext cx="0" cy="186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933720" y="1203480"/>
              <a:ext cx="9720" cy="10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602160" y="2563920"/>
              <a:ext cx="144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931920" y="2421000"/>
              <a:ext cx="11160" cy="40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49800" y="2563920"/>
              <a:ext cx="468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560480" y="2421000"/>
              <a:ext cx="1800" cy="40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878360" y="2563920"/>
              <a:ext cx="144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5186520" y="2421000"/>
              <a:ext cx="1440" cy="40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04040" y="2563920"/>
              <a:ext cx="144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5812920" y="2421000"/>
              <a:ext cx="1800" cy="40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29360" y="2563920"/>
              <a:ext cx="144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6438960" y="2421000"/>
              <a:ext cx="1440" cy="40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7920" y="2563920"/>
              <a:ext cx="180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64280" y="2421000"/>
              <a:ext cx="0" cy="40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389720" y="2563920"/>
              <a:ext cx="180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698960" y="2421000"/>
              <a:ext cx="1800" cy="40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07480" y="2563920"/>
              <a:ext cx="144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8318520" y="2421000"/>
              <a:ext cx="1440" cy="408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624880" y="2563920"/>
              <a:ext cx="1440" cy="394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89000" y="2278080"/>
              <a:ext cx="2184480" cy="285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98720" y="6505560"/>
              <a:ext cx="251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73480" y="1060560"/>
              <a:ext cx="1440" cy="5445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57400" y="1131840"/>
              <a:ext cx="2182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340080" y="2278080"/>
              <a:ext cx="5680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73480" y="2278080"/>
              <a:ext cx="5681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73480" y="2421000"/>
              <a:ext cx="5681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41720" y="2563920"/>
              <a:ext cx="581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1092240" y="2779560"/>
              <a:ext cx="786276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89000" y="2994120"/>
              <a:ext cx="78660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92240" y="3257640"/>
              <a:ext cx="7862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92240" y="3489480"/>
              <a:ext cx="786276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92240" y="3711600"/>
              <a:ext cx="7862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92240" y="3952800"/>
              <a:ext cx="7862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1092240" y="4184640"/>
              <a:ext cx="7862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1092240" y="4417560"/>
              <a:ext cx="7862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1092240" y="4649400"/>
              <a:ext cx="78627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092240" y="4881600"/>
              <a:ext cx="7862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92240" y="5111640"/>
              <a:ext cx="7862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92240" y="5345280"/>
              <a:ext cx="7862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092240" y="5576760"/>
              <a:ext cx="7862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92240" y="6040440"/>
              <a:ext cx="7862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92240" y="5810400"/>
              <a:ext cx="78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92240" y="6273720"/>
              <a:ext cx="7862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602160" y="242064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249800" y="242064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4878360" y="242064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5504040" y="242064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6757920" y="242064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89720" y="242064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8007480" y="242064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8624880" y="242064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6129360" y="242064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40080" y="242100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73360" y="2421000"/>
              <a:ext cx="463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43440" y="242100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60920" y="2421000"/>
              <a:ext cx="263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62400" y="2421000"/>
              <a:ext cx="3319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857840" y="2421000"/>
              <a:ext cx="395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86520" y="242100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475240" y="2421000"/>
              <a:ext cx="328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84840" y="2422440"/>
              <a:ext cx="4492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108840" y="2421000"/>
              <a:ext cx="328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42200" y="2421000"/>
              <a:ext cx="333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10760" y="242100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05680" y="2421000"/>
              <a:ext cx="326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358040" y="242100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7880" y="2421000"/>
              <a:ext cx="331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999560" y="2421000"/>
              <a:ext cx="3315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40640" y="2413080"/>
              <a:ext cx="1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44080" y="2421000"/>
              <a:ext cx="3301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89000" y="1060560"/>
              <a:ext cx="0" cy="12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89000" y="2278080"/>
              <a:ext cx="0" cy="422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088640" y="6505560"/>
              <a:ext cx="786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8940960" y="2278080"/>
              <a:ext cx="17280" cy="423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1089000" y="70128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89000" y="701640"/>
              <a:ext cx="786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89000" y="2779560"/>
              <a:ext cx="220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11:  AD Operations at the ECS (con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162080" y="2844720"/>
              <a:ext cx="1833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89000" y="3029040"/>
              <a:ext cx="2484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93 Verify IFF Operability on the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73160" y="3495600"/>
              <a:ext cx="220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500 Perf Remote Launch Ops a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69920" y="3726000"/>
              <a:ext cx="2127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EC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73160" y="3940200"/>
              <a:ext cx="2127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502 Oper the Voice Commo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Sy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73160" y="4203720"/>
              <a:ext cx="2127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12:  ECS and ICC Opr/Org Ma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89000" y="3997440"/>
              <a:ext cx="205416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73160" y="4440240"/>
              <a:ext cx="2054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27 Perf Opr/Org Maint on the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89000" y="4883040"/>
              <a:ext cx="22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28 Perf Opr/Org Maint on 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73160" y="5132520"/>
              <a:ext cx="22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/ICC HC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69920" y="4668840"/>
              <a:ext cx="22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/ICC Display and Control Grou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89000" y="4859280"/>
              <a:ext cx="2127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08080" y="4859280"/>
              <a:ext cx="1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69920" y="5345280"/>
              <a:ext cx="22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31 Perf Opr/Org Maint on 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69920" y="5578560"/>
              <a:ext cx="22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/ICC AC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69920" y="5826240"/>
              <a:ext cx="22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32 Perf Opr/Org Maint on 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73160" y="6060960"/>
              <a:ext cx="22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/ICC Antenna Mast Monitor Pn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69920" y="6275520"/>
              <a:ext cx="220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33 Perf Opr/Org Maint on 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162080" y="1203480"/>
              <a:ext cx="213048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5389800">
              <a:off x="222840" y="6351480"/>
              <a:ext cx="46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5400000">
              <a:off x="8697240" y="5854320"/>
              <a:ext cx="1592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92240" y="2563920"/>
              <a:ext cx="2216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MUP-EC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89000" y="3257640"/>
              <a:ext cx="2484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330480" y="582480"/>
            <a:ext cx="9321120" cy="6244920"/>
            <a:chOff x="330480" y="582480"/>
            <a:chExt cx="9321120" cy="6244920"/>
          </a:xfrm>
        </p:grpSpPr>
        <p:sp>
          <p:nvSpPr>
            <p:cNvPr id="742" name=""/>
            <p:cNvSpPr/>
            <p:nvPr/>
          </p:nvSpPr>
          <p:spPr>
            <a:xfrm>
              <a:off x="1425600" y="6566040"/>
              <a:ext cx="2417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A FORM 5165-R, SEP 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972560" y="6570720"/>
              <a:ext cx="87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APPC VI.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5398800">
              <a:off x="-914760" y="3803400"/>
              <a:ext cx="386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gure B-1.  Completed sample of DA Form 5165-R (continued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408880" y="2419200"/>
              <a:ext cx="446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43000" y="673200"/>
              <a:ext cx="5675400" cy="363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IELD EXPEDIENT SQUAD BOOK</a:t>
              </a: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For use of  this  form, see AR 350-57, the proponent agency is ODCSOPS           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818400" y="673200"/>
              <a:ext cx="1911240" cy="43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11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HE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7  OF  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9720" y="1036800"/>
              <a:ext cx="5479920" cy="145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OLDIER’S NA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91000" y="1182600"/>
              <a:ext cx="180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5094360" y="1182600"/>
              <a:ext cx="144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97360" y="1182600"/>
              <a:ext cx="180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00720" y="1182600"/>
              <a:ext cx="468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904080" y="1182600"/>
              <a:ext cx="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7516800" y="1182600"/>
              <a:ext cx="144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113680" y="1182600"/>
              <a:ext cx="180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729640" y="673200"/>
              <a:ext cx="0" cy="18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86200" y="1182600"/>
              <a:ext cx="9360" cy="109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567240" y="2563920"/>
              <a:ext cx="1440" cy="400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3884760" y="2419200"/>
              <a:ext cx="10800" cy="414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192560" y="2563920"/>
              <a:ext cx="3240" cy="400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490640" y="2419200"/>
              <a:ext cx="1800" cy="414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7360" y="2563920"/>
              <a:ext cx="1800" cy="400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5092200" y="2419200"/>
              <a:ext cx="1800" cy="414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98920" y="2563920"/>
              <a:ext cx="1800" cy="400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5697000" y="2419200"/>
              <a:ext cx="1800" cy="414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02280" y="2563920"/>
              <a:ext cx="1800" cy="400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6300360" y="2419200"/>
              <a:ext cx="1800" cy="414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608880" y="2563920"/>
              <a:ext cx="1440" cy="400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904080" y="2419200"/>
              <a:ext cx="0" cy="414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218360" y="2563920"/>
              <a:ext cx="1440" cy="400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7516800" y="2419200"/>
              <a:ext cx="1440" cy="414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813800" y="2563920"/>
              <a:ext cx="1440" cy="400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8113320" y="2419200"/>
              <a:ext cx="1800" cy="414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408880" y="2563920"/>
              <a:ext cx="1800" cy="400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143000" y="2273400"/>
              <a:ext cx="2106720" cy="290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ASK NUMBER AND SHORT TIT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57680" y="6567480"/>
              <a:ext cx="2421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DITION OF DEC 82 IS OBSOLE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3249720" y="1036800"/>
              <a:ext cx="1440" cy="553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211400" y="1109520"/>
              <a:ext cx="2101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USER APPLI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313080" y="2274840"/>
              <a:ext cx="5477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249720" y="2273400"/>
              <a:ext cx="5476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249720" y="2419200"/>
              <a:ext cx="5476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122640" y="2563920"/>
              <a:ext cx="560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146240" y="2782800"/>
              <a:ext cx="758016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43000" y="3002040"/>
              <a:ext cx="75834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146240" y="3268800"/>
              <a:ext cx="7580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46240" y="3503520"/>
              <a:ext cx="758016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146240" y="3728880"/>
              <a:ext cx="7580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146240" y="3975120"/>
              <a:ext cx="7580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1146240" y="4210200"/>
              <a:ext cx="7580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1146240" y="4446720"/>
              <a:ext cx="7580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1146240" y="4681440"/>
              <a:ext cx="75801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46240" y="4917960"/>
              <a:ext cx="7580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146240" y="5151600"/>
              <a:ext cx="7580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146240" y="5388120"/>
              <a:ext cx="7580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46240" y="5622840"/>
              <a:ext cx="7580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146240" y="6095880"/>
              <a:ext cx="7580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1146240" y="5859000"/>
              <a:ext cx="7580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146240" y="6332400"/>
              <a:ext cx="7580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3567240" y="2419200"/>
              <a:ext cx="14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4192560" y="24192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797360" y="2419200"/>
              <a:ext cx="18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398920" y="2419200"/>
              <a:ext cx="18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608880" y="2419200"/>
              <a:ext cx="14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218360" y="2419200"/>
              <a:ext cx="14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813800" y="2419200"/>
              <a:ext cx="14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8408880" y="2419200"/>
              <a:ext cx="18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6002280" y="2419200"/>
              <a:ext cx="18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13080" y="2419200"/>
              <a:ext cx="318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38440" y="2419200"/>
              <a:ext cx="4478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2419200"/>
              <a:ext cx="317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86400" y="2419200"/>
              <a:ext cx="257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203720" y="241920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 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776840" y="2419200"/>
              <a:ext cx="3826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094360" y="2419200"/>
              <a:ext cx="317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370480" y="2419200"/>
              <a:ext cx="318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70720" y="2419200"/>
              <a:ext cx="433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81760" y="2419200"/>
              <a:ext cx="318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305400" y="241920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563880" y="2419200"/>
              <a:ext cx="426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43680" y="2419200"/>
              <a:ext cx="318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86680" y="2419200"/>
              <a:ext cx="320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516800" y="2419200"/>
              <a:ext cx="317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807320" y="2419200"/>
              <a:ext cx="317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NO-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54880" y="2411280"/>
              <a:ext cx="18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139240" y="2419200"/>
              <a:ext cx="3175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G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43000" y="1036800"/>
              <a:ext cx="0" cy="12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143000" y="2274840"/>
              <a:ext cx="0" cy="429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1143000" y="6567480"/>
              <a:ext cx="75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8713800" y="2274480"/>
              <a:ext cx="15840" cy="429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1143000" y="673200"/>
              <a:ext cx="0" cy="363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43000" y="673200"/>
              <a:ext cx="75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66680" y="2773440"/>
              <a:ext cx="2395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12:  ECS and ICC Opr/Org Maint (cont)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14280" y="2849400"/>
              <a:ext cx="176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128600" y="3032280"/>
              <a:ext cx="19814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34 Perf Opr/Org Maint on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46240" y="3289320"/>
              <a:ext cx="212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ECS/ICC Gen Ctrl Pn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143000" y="3503520"/>
              <a:ext cx="205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35 Perf Opr/Org Maint on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154160" y="3730680"/>
              <a:ext cx="205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ECS/ICC RLRI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127160" y="3976560"/>
              <a:ext cx="2052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36 Perf Opr Maint on 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143000" y="4022640"/>
              <a:ext cx="19810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127160" y="4211640"/>
              <a:ext cx="1981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/ICC/CRG Voice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Comm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127160" y="4687920"/>
              <a:ext cx="212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/ICC AC/DC Power Distr Sy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128600" y="4467240"/>
              <a:ext cx="212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4-1437 Perf Opr/Org Maint on th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143000" y="4822920"/>
              <a:ext cx="2052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154160" y="4896000"/>
              <a:ext cx="18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128600" y="4937040"/>
              <a:ext cx="212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A 13:  ECS Opr/Org Ma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43000" y="5153040"/>
              <a:ext cx="2122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40 Perf Opr/Org Maint on the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54160" y="5380200"/>
              <a:ext cx="2122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 RWCI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146240" y="5622840"/>
              <a:ext cx="2122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41-083-1441 Perf Opr/Org Maint on th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127160" y="5861160"/>
              <a:ext cx="2122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 W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14280" y="1182600"/>
              <a:ext cx="205128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-14E24-SM-T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 14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riot Fire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nhanced Operator/Maintain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54160" y="6118200"/>
              <a:ext cx="212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41-083-1495 Perf Opr/Org Maint on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54160" y="6332400"/>
              <a:ext cx="2122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 FS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5389800">
              <a:off x="223200" y="712440"/>
              <a:ext cx="46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5400000">
              <a:off x="8682840" y="1304640"/>
              <a:ext cx="169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P 44-14E24-SM-T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89000" y="6292800"/>
              <a:ext cx="227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41280" y="6445080"/>
              <a:ext cx="2275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143000" y="2583000"/>
              <a:ext cx="2274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CS/ICC EC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1298520" y="580612320"/>
            <a:ext cx="8234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120160" y="6580080"/>
            <a:ext cx="884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USAPPC VI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rot="5392200">
            <a:off x="-1046160" y="3677760"/>
            <a:ext cx="394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ure B-1.  Completed sample of DA Form 5165-R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136520" y="6566040"/>
            <a:ext cx="2492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A FORM 5165-R, SEP 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543880" y="2428920"/>
            <a:ext cx="460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063800" y="685800"/>
            <a:ext cx="5843520" cy="36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IELD EXPEDIENT SQUAD BOOK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For use of  this  form, see AR 350-57, the proponent agency is ODCSOPS                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907320" y="685800"/>
            <a:ext cx="1968480" cy="43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11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HE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  OF 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32080" y="1049400"/>
            <a:ext cx="5643720" cy="14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OLDIER’S N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510080" y="1193760"/>
            <a:ext cx="1440" cy="10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5132520" y="1193760"/>
            <a:ext cx="1440" cy="10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753160" y="1193760"/>
            <a:ext cx="1440" cy="10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375240" y="1193760"/>
            <a:ext cx="5040" cy="10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996240" y="119376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7625880" y="1193760"/>
            <a:ext cx="1800" cy="10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240760" y="1193760"/>
            <a:ext cx="1440" cy="10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875800" y="685800"/>
            <a:ext cx="0" cy="188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7640" y="1193760"/>
            <a:ext cx="9720" cy="108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559320" y="2571840"/>
            <a:ext cx="1440" cy="39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3885840" y="2427120"/>
            <a:ext cx="11160" cy="413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202280" y="2571840"/>
            <a:ext cx="4680" cy="39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4510080" y="2427120"/>
            <a:ext cx="1440" cy="413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826160" y="2571840"/>
            <a:ext cx="1440" cy="39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5130360" y="2427120"/>
            <a:ext cx="1800" cy="413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46800" y="2571840"/>
            <a:ext cx="1440" cy="39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5753160" y="2427120"/>
            <a:ext cx="1440" cy="413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67440" y="2571840"/>
            <a:ext cx="1440" cy="39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6374880" y="2427120"/>
            <a:ext cx="1800" cy="413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691320" y="2571840"/>
            <a:ext cx="1440" cy="39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996240" y="2427120"/>
            <a:ext cx="0" cy="413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319880" y="2571840"/>
            <a:ext cx="1800" cy="39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7625880" y="2427120"/>
            <a:ext cx="1800" cy="413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932600" y="2571840"/>
            <a:ext cx="1800" cy="39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8240760" y="2427120"/>
            <a:ext cx="1440" cy="413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545680" y="2571840"/>
            <a:ext cx="0" cy="399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63800" y="2281320"/>
            <a:ext cx="2168280" cy="29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TASK NUMBER AND SHORT TIT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54440" y="6562800"/>
            <a:ext cx="249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DITION OF DEC 82 IS OBSOLE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3231720" y="1049400"/>
            <a:ext cx="1800" cy="551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131840" y="1120680"/>
            <a:ext cx="2165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USER APPL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276720" y="2286000"/>
            <a:ext cx="564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232080" y="2281320"/>
            <a:ext cx="5640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232080" y="2427120"/>
            <a:ext cx="5640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102120" y="2571840"/>
            <a:ext cx="5773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1066680" y="2789280"/>
            <a:ext cx="780588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063800" y="3006720"/>
            <a:ext cx="7808760" cy="3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066680" y="3273480"/>
            <a:ext cx="780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066680" y="3508200"/>
            <a:ext cx="7805880" cy="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066680" y="3733920"/>
            <a:ext cx="780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66680" y="3978360"/>
            <a:ext cx="780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1066680" y="4212720"/>
            <a:ext cx="7805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1066680" y="4448160"/>
            <a:ext cx="780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066680" y="4682880"/>
            <a:ext cx="780588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066680" y="4919760"/>
            <a:ext cx="780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066680" y="5151600"/>
            <a:ext cx="780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066680" y="5388120"/>
            <a:ext cx="780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066680" y="5622840"/>
            <a:ext cx="7805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066680" y="6093000"/>
            <a:ext cx="780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066680" y="5857920"/>
            <a:ext cx="780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066680" y="6329520"/>
            <a:ext cx="780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559320" y="242712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202280" y="242712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4826160" y="242712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5446800" y="242712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6691320" y="242712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7319880" y="2427120"/>
            <a:ext cx="18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7932600" y="2427120"/>
            <a:ext cx="18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8545680" y="24271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6067440" y="242712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97240" y="2428920"/>
            <a:ext cx="32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530520" y="2428920"/>
            <a:ext cx="459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897360" y="2428920"/>
            <a:ext cx="32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608360" y="2428920"/>
            <a:ext cx="263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214880" y="2428920"/>
            <a:ext cx="32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 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803840" y="2428920"/>
            <a:ext cx="395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32520" y="2428920"/>
            <a:ext cx="331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418000" y="2428920"/>
            <a:ext cx="327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26160" y="2428920"/>
            <a:ext cx="44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46920" y="2428920"/>
            <a:ext cx="32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8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380280" y="2428920"/>
            <a:ext cx="330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645600" y="2428920"/>
            <a:ext cx="426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037280" y="2428920"/>
            <a:ext cx="327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288200" y="2428920"/>
            <a:ext cx="32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626240" y="2428920"/>
            <a:ext cx="32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924680" y="2428920"/>
            <a:ext cx="328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-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567560" y="24192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269200" y="2428920"/>
            <a:ext cx="32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063800" y="1049400"/>
            <a:ext cx="0" cy="123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063800" y="2282760"/>
            <a:ext cx="0" cy="428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H="1">
            <a:off x="1063800" y="6562800"/>
            <a:ext cx="78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8858160" y="2282760"/>
            <a:ext cx="17640" cy="428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1063800" y="685800"/>
            <a:ext cx="0" cy="36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063800" y="685800"/>
            <a:ext cx="781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065240" y="257328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 13:  ECS Opr/Org Maint (con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136520" y="2855880"/>
            <a:ext cx="18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065240" y="2790720"/>
            <a:ext cx="213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96 Perf Opr/Org Maint 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66680" y="304812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S/LCS/RLCE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065240" y="3273480"/>
            <a:ext cx="211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4-1439 Perf Opr/Org Maint on th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065240" y="3516480"/>
            <a:ext cx="211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S D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063800" y="3763800"/>
            <a:ext cx="211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 14:  ICC Opr/Org Ma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065240" y="4024440"/>
            <a:ext cx="203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065240" y="3995640"/>
            <a:ext cx="20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42 Perf Opr/Org Maint on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065240" y="446076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443 Perf Opr/Org Maint o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049400" y="4692600"/>
            <a:ext cx="218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C WCC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65240" y="424332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C/ECS Data Modem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65240" y="4896000"/>
            <a:ext cx="211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079640" y="489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66680" y="4935600"/>
            <a:ext cx="218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 15:  CRG Opr/Org Ma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079640" y="5173560"/>
            <a:ext cx="218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501 Perf Org Maint on the C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065240" y="540396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065240" y="562140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502 Perf Org Maint on the C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065240" y="585792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enna Mast Monitor P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36520" y="1193760"/>
            <a:ext cx="21132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4-14E24-SM-T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S 14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triot Fire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hanced Operator/Maintai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065240" y="6130800"/>
            <a:ext cx="218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1-083-1503 Perf Org Maint on the C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065240" y="6348240"/>
            <a:ext cx="2257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rot="5389800">
            <a:off x="223200" y="6427440"/>
            <a:ext cx="46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-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5400000">
            <a:off x="8751960" y="5879160"/>
            <a:ext cx="155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P 44-14E24-SM-T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15:43:53Z</dcterms:created>
  <dc:creator>EwingRL</dc:creator>
  <dc:description/>
  <dc:language>en-US</dc:language>
  <cp:lastModifiedBy>HartTD</cp:lastModifiedBy>
  <cp:lastPrinted>2001-02-05T14:36:52Z</cp:lastPrinted>
  <dcterms:modified xsi:type="dcterms:W3CDTF">2002-01-28T17:55:07Z</dcterms:modified>
  <cp:revision>148</cp:revision>
  <dc:subject/>
  <dc:title>No Slide Title</dc:title>
</cp:coreProperties>
</file>